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0B60-4453-4ACF-A07C-AD245BD0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431-A7E7-44EC-9D94-0B177256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32E0-B826-4CCF-A41D-66769A0C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71F-ACC9-44EB-8D8B-CC4CA6DB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EC3-E03D-46A5-85D7-EB076B6C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5C90-E215-4BC3-8A41-10B02FF1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388-B472-4EBF-9701-9D2A6032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004-ACD8-471C-A513-BAC9913C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D5A-512F-487A-9D1E-D4D88585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19A-D345-44D0-90FF-96164633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AC5-B35D-47B2-B505-B9AA55CF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1A9-115B-42FF-B017-B8F4A16B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10E7-A5B7-4DDB-BCE6-9A489E7CE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ril 12, 2010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divide a decimal by a whol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23619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35 + 18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4.7 - 37.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4 x 3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87800" y="29113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855" y="8086"/>
                </a:moveTo>
                <a:lnTo>
                  <a:pt x="8855" y="8086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48040" y="3017880"/>
            <a:ext cx="1832040" cy="947520"/>
          </a:xfrm>
          <a:custGeom>
            <a:avLst/>
            <a:gdLst/>
            <a:ahLst/>
            <a:rect l="l" t="t" r="r" b="b"/>
            <a:pathLst>
              <a:path w="5086" h="2630">
                <a:moveTo>
                  <a:pt x="12502" y="8458"/>
                </a:moveTo>
                <a:cubicBezTo>
                  <a:pt x="12545" y="8473"/>
                  <a:pt x="12503" y="8681"/>
                  <a:pt x="12502" y="8731"/>
                </a:cubicBezTo>
                <a:cubicBezTo>
                  <a:pt x="12500" y="8839"/>
                  <a:pt x="12502" y="8946"/>
                  <a:pt x="12502" y="9054"/>
                </a:cubicBezTo>
              </a:path>
              <a:path w="5086" h="2630">
                <a:moveTo>
                  <a:pt x="12750" y="8930"/>
                </a:moveTo>
                <a:cubicBezTo>
                  <a:pt x="12758" y="8930"/>
                  <a:pt x="12766" y="8930"/>
                  <a:pt x="12774" y="8930"/>
                </a:cubicBezTo>
              </a:path>
              <a:path w="5086" h="2630">
                <a:moveTo>
                  <a:pt x="13246" y="8434"/>
                </a:moveTo>
                <a:cubicBezTo>
                  <a:pt x="13307" y="8422"/>
                  <a:pt x="13404" y="8380"/>
                  <a:pt x="13469" y="8409"/>
                </a:cubicBezTo>
                <a:cubicBezTo>
                  <a:pt x="13601" y="8468"/>
                  <a:pt x="13477" y="8607"/>
                  <a:pt x="13395" y="8632"/>
                </a:cubicBezTo>
                <a:cubicBezTo>
                  <a:pt x="13370" y="8632"/>
                  <a:pt x="13345" y="8632"/>
                  <a:pt x="13320" y="8632"/>
                </a:cubicBezTo>
                <a:cubicBezTo>
                  <a:pt x="13320" y="8624"/>
                  <a:pt x="13320" y="8615"/>
                  <a:pt x="13320" y="8607"/>
                </a:cubicBezTo>
                <a:cubicBezTo>
                  <a:pt x="13419" y="8592"/>
                  <a:pt x="13617" y="8583"/>
                  <a:pt x="13593" y="8756"/>
                </a:cubicBezTo>
                <a:cubicBezTo>
                  <a:pt x="13574" y="8890"/>
                  <a:pt x="13318" y="8939"/>
                  <a:pt x="13221" y="8905"/>
                </a:cubicBezTo>
                <a:cubicBezTo>
                  <a:pt x="13128" y="8834"/>
                  <a:pt x="13093" y="8817"/>
                  <a:pt x="13146" y="8731"/>
                </a:cubicBezTo>
              </a:path>
              <a:path w="5086" h="2630">
                <a:moveTo>
                  <a:pt x="14312" y="8384"/>
                </a:moveTo>
                <a:cubicBezTo>
                  <a:pt x="14248" y="8400"/>
                  <a:pt x="14185" y="8421"/>
                  <a:pt x="14114" y="8434"/>
                </a:cubicBezTo>
                <a:cubicBezTo>
                  <a:pt x="14036" y="8448"/>
                  <a:pt x="13937" y="8440"/>
                  <a:pt x="13915" y="8533"/>
                </a:cubicBezTo>
                <a:cubicBezTo>
                  <a:pt x="13915" y="8584"/>
                  <a:pt x="13916" y="8603"/>
                  <a:pt x="13940" y="8632"/>
                </a:cubicBezTo>
                <a:cubicBezTo>
                  <a:pt x="14054" y="8597"/>
                  <a:pt x="14216" y="8525"/>
                  <a:pt x="14337" y="8558"/>
                </a:cubicBezTo>
                <a:cubicBezTo>
                  <a:pt x="14479" y="8598"/>
                  <a:pt x="14464" y="8786"/>
                  <a:pt x="14362" y="8855"/>
                </a:cubicBezTo>
                <a:cubicBezTo>
                  <a:pt x="14211" y="8957"/>
                  <a:pt x="14076" y="8906"/>
                  <a:pt x="13965" y="8806"/>
                </a:cubicBezTo>
              </a:path>
              <a:path w="5086" h="2630">
                <a:moveTo>
                  <a:pt x="10864" y="9575"/>
                </a:moveTo>
                <a:cubicBezTo>
                  <a:pt x="10864" y="9675"/>
                  <a:pt x="10886" y="9771"/>
                  <a:pt x="10889" y="9872"/>
                </a:cubicBezTo>
                <a:cubicBezTo>
                  <a:pt x="10891" y="9952"/>
                  <a:pt x="10899" y="9987"/>
                  <a:pt x="10840" y="9971"/>
                </a:cubicBezTo>
              </a:path>
              <a:path w="5086" h="2630">
                <a:moveTo>
                  <a:pt x="10691" y="9823"/>
                </a:moveTo>
                <a:cubicBezTo>
                  <a:pt x="10848" y="9823"/>
                  <a:pt x="11005" y="9823"/>
                  <a:pt x="11162" y="9823"/>
                </a:cubicBezTo>
              </a:path>
              <a:path w="5086" h="2630">
                <a:moveTo>
                  <a:pt x="11857" y="9575"/>
                </a:moveTo>
                <a:cubicBezTo>
                  <a:pt x="11857" y="9710"/>
                  <a:pt x="11877" y="9837"/>
                  <a:pt x="11881" y="9971"/>
                </a:cubicBezTo>
                <a:cubicBezTo>
                  <a:pt x="11884" y="10068"/>
                  <a:pt x="11852" y="10072"/>
                  <a:pt x="11931" y="10046"/>
                </a:cubicBezTo>
              </a:path>
              <a:path w="5086" h="2630">
                <a:moveTo>
                  <a:pt x="12526" y="9550"/>
                </a:moveTo>
                <a:cubicBezTo>
                  <a:pt x="12423" y="9566"/>
                  <a:pt x="12369" y="9593"/>
                  <a:pt x="12278" y="9649"/>
                </a:cubicBezTo>
                <a:cubicBezTo>
                  <a:pt x="12305" y="9808"/>
                  <a:pt x="12419" y="9797"/>
                  <a:pt x="12526" y="9897"/>
                </a:cubicBezTo>
                <a:cubicBezTo>
                  <a:pt x="12586" y="9976"/>
                  <a:pt x="12611" y="9985"/>
                  <a:pt x="12601" y="10046"/>
                </a:cubicBezTo>
                <a:cubicBezTo>
                  <a:pt x="12502" y="10096"/>
                  <a:pt x="12344" y="10073"/>
                  <a:pt x="12402" y="9897"/>
                </a:cubicBezTo>
                <a:cubicBezTo>
                  <a:pt x="12442" y="9775"/>
                  <a:pt x="12578" y="9721"/>
                  <a:pt x="12601" y="9599"/>
                </a:cubicBezTo>
                <a:cubicBezTo>
                  <a:pt x="12601" y="9575"/>
                  <a:pt x="12601" y="9566"/>
                  <a:pt x="12601" y="9550"/>
                </a:cubicBezTo>
              </a:path>
              <a:path w="5086" h="2630">
                <a:moveTo>
                  <a:pt x="12998" y="9947"/>
                </a:moveTo>
                <a:cubicBezTo>
                  <a:pt x="13006" y="9939"/>
                  <a:pt x="13014" y="9930"/>
                  <a:pt x="13022" y="9922"/>
                </a:cubicBezTo>
              </a:path>
              <a:path w="5086" h="2630">
                <a:moveTo>
                  <a:pt x="13295" y="9475"/>
                </a:moveTo>
                <a:cubicBezTo>
                  <a:pt x="13341" y="9442"/>
                  <a:pt x="13464" y="9391"/>
                  <a:pt x="13519" y="9426"/>
                </a:cubicBezTo>
                <a:cubicBezTo>
                  <a:pt x="13688" y="9533"/>
                  <a:pt x="13572" y="9737"/>
                  <a:pt x="13444" y="9798"/>
                </a:cubicBezTo>
                <a:cubicBezTo>
                  <a:pt x="13390" y="9823"/>
                  <a:pt x="13196" y="9872"/>
                  <a:pt x="13246" y="9773"/>
                </a:cubicBezTo>
                <a:cubicBezTo>
                  <a:pt x="13352" y="9781"/>
                  <a:pt x="13473" y="9790"/>
                  <a:pt x="13568" y="9847"/>
                </a:cubicBezTo>
                <a:cubicBezTo>
                  <a:pt x="13576" y="9855"/>
                  <a:pt x="13585" y="9864"/>
                  <a:pt x="13593" y="9872"/>
                </a:cubicBezTo>
              </a:path>
              <a:path w="5086" h="2630">
                <a:moveTo>
                  <a:pt x="10889" y="10269"/>
                </a:moveTo>
                <a:cubicBezTo>
                  <a:pt x="12340" y="10269"/>
                  <a:pt x="13808" y="10333"/>
                  <a:pt x="15255" y="10220"/>
                </a:cubicBezTo>
                <a:cubicBezTo>
                  <a:pt x="15430" y="10206"/>
                  <a:pt x="15601" y="10179"/>
                  <a:pt x="15776" y="10170"/>
                </a:cubicBezTo>
              </a:path>
              <a:path w="5086" h="2630">
                <a:moveTo>
                  <a:pt x="14263" y="9500"/>
                </a:moveTo>
                <a:cubicBezTo>
                  <a:pt x="14222" y="9500"/>
                  <a:pt x="14174" y="9456"/>
                  <a:pt x="14139" y="9475"/>
                </a:cubicBezTo>
                <a:cubicBezTo>
                  <a:pt x="14015" y="9541"/>
                  <a:pt x="14019" y="9731"/>
                  <a:pt x="14015" y="9847"/>
                </a:cubicBezTo>
                <a:cubicBezTo>
                  <a:pt x="14015" y="9864"/>
                  <a:pt x="14015" y="9880"/>
                  <a:pt x="14015" y="9897"/>
                </a:cubicBezTo>
                <a:cubicBezTo>
                  <a:pt x="14145" y="9916"/>
                  <a:pt x="14344" y="9902"/>
                  <a:pt x="14412" y="9748"/>
                </a:cubicBezTo>
                <a:cubicBezTo>
                  <a:pt x="14466" y="9626"/>
                  <a:pt x="14365" y="9466"/>
                  <a:pt x="14238" y="9475"/>
                </a:cubicBezTo>
                <a:cubicBezTo>
                  <a:pt x="14160" y="9501"/>
                  <a:pt x="14132" y="9511"/>
                  <a:pt x="14089" y="9550"/>
                </a:cubicBezTo>
              </a:path>
              <a:path w="5086" h="2630">
                <a:moveTo>
                  <a:pt x="14511" y="10393"/>
                </a:moveTo>
                <a:cubicBezTo>
                  <a:pt x="14422" y="10453"/>
                  <a:pt x="14317" y="10462"/>
                  <a:pt x="14213" y="10492"/>
                </a:cubicBezTo>
                <a:cubicBezTo>
                  <a:pt x="14164" y="10506"/>
                  <a:pt x="14098" y="10512"/>
                  <a:pt x="14089" y="10567"/>
                </a:cubicBezTo>
                <a:cubicBezTo>
                  <a:pt x="14082" y="10613"/>
                  <a:pt x="14089" y="10669"/>
                  <a:pt x="14089" y="10716"/>
                </a:cubicBezTo>
                <a:cubicBezTo>
                  <a:pt x="14144" y="10716"/>
                  <a:pt x="14184" y="10719"/>
                  <a:pt x="14238" y="10691"/>
                </a:cubicBezTo>
                <a:cubicBezTo>
                  <a:pt x="14348" y="10633"/>
                  <a:pt x="14390" y="10640"/>
                  <a:pt x="14511" y="10666"/>
                </a:cubicBezTo>
                <a:cubicBezTo>
                  <a:pt x="14500" y="10789"/>
                  <a:pt x="14475" y="10844"/>
                  <a:pt x="14337" y="10864"/>
                </a:cubicBezTo>
                <a:cubicBezTo>
                  <a:pt x="14276" y="10873"/>
                  <a:pt x="14202" y="10864"/>
                  <a:pt x="14139" y="10864"/>
                </a:cubicBezTo>
              </a:path>
              <a:path w="5086" h="2630">
                <a:moveTo>
                  <a:pt x="13618" y="10492"/>
                </a:moveTo>
                <a:cubicBezTo>
                  <a:pt x="13630" y="10539"/>
                  <a:pt x="13537" y="10577"/>
                  <a:pt x="13469" y="10567"/>
                </a:cubicBezTo>
                <a:cubicBezTo>
                  <a:pt x="13446" y="10544"/>
                  <a:pt x="13442" y="10536"/>
                  <a:pt x="13419" y="10542"/>
                </a:cubicBezTo>
                <a:cubicBezTo>
                  <a:pt x="13419" y="10605"/>
                  <a:pt x="13398" y="10651"/>
                  <a:pt x="13395" y="10716"/>
                </a:cubicBezTo>
                <a:cubicBezTo>
                  <a:pt x="13395" y="10732"/>
                  <a:pt x="13395" y="10749"/>
                  <a:pt x="13395" y="10765"/>
                </a:cubicBezTo>
                <a:cubicBezTo>
                  <a:pt x="13438" y="10765"/>
                  <a:pt x="13480" y="10753"/>
                  <a:pt x="13519" y="10740"/>
                </a:cubicBezTo>
                <a:cubicBezTo>
                  <a:pt x="13610" y="10708"/>
                  <a:pt x="13683" y="10731"/>
                  <a:pt x="13742" y="10790"/>
                </a:cubicBezTo>
                <a:cubicBezTo>
                  <a:pt x="13711" y="10929"/>
                  <a:pt x="13650" y="10945"/>
                  <a:pt x="13519" y="10988"/>
                </a:cubicBezTo>
                <a:cubicBezTo>
                  <a:pt x="13466" y="11006"/>
                  <a:pt x="13411" y="11039"/>
                  <a:pt x="13395" y="10988"/>
                </a:cubicBezTo>
              </a:path>
              <a:path w="5086" h="2630">
                <a:moveTo>
                  <a:pt x="12948" y="10939"/>
                </a:moveTo>
                <a:cubicBezTo>
                  <a:pt x="12948" y="10922"/>
                  <a:pt x="12948" y="10906"/>
                  <a:pt x="12948" y="10889"/>
                </a:cubicBezTo>
                <a:cubicBezTo>
                  <a:pt x="12936" y="10893"/>
                  <a:pt x="12870" y="10978"/>
                  <a:pt x="12898" y="10988"/>
                </a:cubicBezTo>
                <a:cubicBezTo>
                  <a:pt x="12989" y="11020"/>
                  <a:pt x="13014" y="10920"/>
                  <a:pt x="12998" y="10939"/>
                </a:cubicBezTo>
                <a:cubicBezTo>
                  <a:pt x="12990" y="10947"/>
                  <a:pt x="12981" y="10956"/>
                  <a:pt x="12973" y="10964"/>
                </a:cubicBezTo>
              </a:path>
              <a:path w="5086" h="2630">
                <a:moveTo>
                  <a:pt x="12601" y="10592"/>
                </a:moveTo>
                <a:cubicBezTo>
                  <a:pt x="12620" y="10583"/>
                  <a:pt x="12615" y="10544"/>
                  <a:pt x="12576" y="10517"/>
                </a:cubicBezTo>
                <a:cubicBezTo>
                  <a:pt x="12514" y="10474"/>
                  <a:pt x="12415" y="10478"/>
                  <a:pt x="12353" y="10517"/>
                </a:cubicBezTo>
                <a:cubicBezTo>
                  <a:pt x="12292" y="10555"/>
                  <a:pt x="12266" y="10676"/>
                  <a:pt x="12278" y="10740"/>
                </a:cubicBezTo>
                <a:cubicBezTo>
                  <a:pt x="12286" y="10757"/>
                  <a:pt x="12295" y="10773"/>
                  <a:pt x="12303" y="10790"/>
                </a:cubicBezTo>
                <a:cubicBezTo>
                  <a:pt x="12398" y="10809"/>
                  <a:pt x="12472" y="10795"/>
                  <a:pt x="12551" y="10716"/>
                </a:cubicBezTo>
                <a:cubicBezTo>
                  <a:pt x="12610" y="10657"/>
                  <a:pt x="12620" y="10600"/>
                  <a:pt x="12576" y="10542"/>
                </a:cubicBezTo>
                <a:cubicBezTo>
                  <a:pt x="12576" y="10459"/>
                  <a:pt x="12594" y="10657"/>
                  <a:pt x="12601" y="10740"/>
                </a:cubicBezTo>
                <a:cubicBezTo>
                  <a:pt x="12607" y="10813"/>
                  <a:pt x="12601" y="10891"/>
                  <a:pt x="12601" y="10964"/>
                </a:cubicBezTo>
              </a:path>
              <a:path w="5086" h="2630">
                <a:moveTo>
                  <a:pt x="11881" y="10542"/>
                </a:moveTo>
                <a:cubicBezTo>
                  <a:pt x="11881" y="10501"/>
                  <a:pt x="11881" y="10575"/>
                  <a:pt x="11881" y="10616"/>
                </a:cubicBezTo>
                <a:cubicBezTo>
                  <a:pt x="11881" y="10740"/>
                  <a:pt x="11881" y="10864"/>
                  <a:pt x="11881" y="109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61000" y="3768840"/>
            <a:ext cx="1662120" cy="1446120"/>
          </a:xfrm>
          <a:custGeom>
            <a:avLst/>
            <a:gdLst/>
            <a:ahLst/>
            <a:rect l="l" t="t" r="r" b="b"/>
            <a:pathLst>
              <a:path w="4615" h="4019">
                <a:moveTo>
                  <a:pt x="17438" y="11658"/>
                </a:moveTo>
                <a:cubicBezTo>
                  <a:pt x="17438" y="11500"/>
                  <a:pt x="17296" y="11575"/>
                  <a:pt x="17190" y="11609"/>
                </a:cubicBezTo>
                <a:cubicBezTo>
                  <a:pt x="17040" y="11657"/>
                  <a:pt x="17007" y="11700"/>
                  <a:pt x="16966" y="11832"/>
                </a:cubicBezTo>
                <a:cubicBezTo>
                  <a:pt x="17055" y="11897"/>
                  <a:pt x="17345" y="11974"/>
                  <a:pt x="17314" y="12129"/>
                </a:cubicBezTo>
                <a:cubicBezTo>
                  <a:pt x="17282" y="12290"/>
                  <a:pt x="17162" y="12305"/>
                  <a:pt x="17041" y="12328"/>
                </a:cubicBezTo>
                <a:cubicBezTo>
                  <a:pt x="17010" y="12113"/>
                  <a:pt x="17105" y="11983"/>
                  <a:pt x="17264" y="11832"/>
                </a:cubicBezTo>
                <a:cubicBezTo>
                  <a:pt x="17356" y="11759"/>
                  <a:pt x="17368" y="11755"/>
                  <a:pt x="17413" y="11708"/>
                </a:cubicBezTo>
              </a:path>
              <a:path w="4615" h="4019">
                <a:moveTo>
                  <a:pt x="17661" y="11609"/>
                </a:moveTo>
                <a:cubicBezTo>
                  <a:pt x="17651" y="11729"/>
                  <a:pt x="17607" y="11807"/>
                  <a:pt x="17686" y="11906"/>
                </a:cubicBezTo>
                <a:cubicBezTo>
                  <a:pt x="17779" y="12023"/>
                  <a:pt x="17927" y="11928"/>
                  <a:pt x="18033" y="11881"/>
                </a:cubicBezTo>
              </a:path>
              <a:path w="4615" h="4019">
                <a:moveTo>
                  <a:pt x="17983" y="11485"/>
                </a:moveTo>
                <a:cubicBezTo>
                  <a:pt x="17975" y="11752"/>
                  <a:pt x="17960" y="11998"/>
                  <a:pt x="17884" y="12254"/>
                </a:cubicBezTo>
                <a:cubicBezTo>
                  <a:pt x="17876" y="12279"/>
                  <a:pt x="17867" y="12303"/>
                  <a:pt x="17859" y="12328"/>
                </a:cubicBezTo>
              </a:path>
              <a:path w="4615" h="4019">
                <a:moveTo>
                  <a:pt x="18331" y="12154"/>
                </a:moveTo>
                <a:lnTo>
                  <a:pt x="18331" y="12154"/>
                </a:lnTo>
                <a:lnTo>
                  <a:pt x="18331" y="12154"/>
                </a:lnTo>
              </a:path>
              <a:path w="4615" h="4019">
                <a:moveTo>
                  <a:pt x="18703" y="11658"/>
                </a:moveTo>
                <a:cubicBezTo>
                  <a:pt x="18771" y="11624"/>
                  <a:pt x="18799" y="11508"/>
                  <a:pt x="18876" y="11460"/>
                </a:cubicBezTo>
                <a:cubicBezTo>
                  <a:pt x="18925" y="11430"/>
                  <a:pt x="19044" y="11419"/>
                  <a:pt x="19100" y="11410"/>
                </a:cubicBezTo>
                <a:cubicBezTo>
                  <a:pt x="19182" y="11396"/>
                  <a:pt x="19119" y="11403"/>
                  <a:pt x="19174" y="11385"/>
                </a:cubicBezTo>
                <a:cubicBezTo>
                  <a:pt x="19159" y="11608"/>
                  <a:pt x="19070" y="11794"/>
                  <a:pt x="19000" y="12005"/>
                </a:cubicBezTo>
                <a:cubicBezTo>
                  <a:pt x="18972" y="12089"/>
                  <a:pt x="18926" y="12204"/>
                  <a:pt x="18951" y="12254"/>
                </a:cubicBezTo>
              </a:path>
              <a:path w="4615" h="4019">
                <a:moveTo>
                  <a:pt x="15726" y="12898"/>
                </a:moveTo>
                <a:cubicBezTo>
                  <a:pt x="15787" y="12908"/>
                  <a:pt x="15837" y="12918"/>
                  <a:pt x="15900" y="12923"/>
                </a:cubicBezTo>
              </a:path>
              <a:path w="4615" h="4019">
                <a:moveTo>
                  <a:pt x="17066" y="12700"/>
                </a:moveTo>
                <a:cubicBezTo>
                  <a:pt x="17027" y="12622"/>
                  <a:pt x="17164" y="12588"/>
                  <a:pt x="17239" y="12576"/>
                </a:cubicBezTo>
                <a:cubicBezTo>
                  <a:pt x="17264" y="12576"/>
                  <a:pt x="17289" y="12576"/>
                  <a:pt x="17314" y="12576"/>
                </a:cubicBezTo>
                <a:cubicBezTo>
                  <a:pt x="17345" y="12738"/>
                  <a:pt x="17276" y="12811"/>
                  <a:pt x="17140" y="12898"/>
                </a:cubicBezTo>
                <a:cubicBezTo>
                  <a:pt x="17099" y="12918"/>
                  <a:pt x="17083" y="12937"/>
                  <a:pt x="17090" y="12898"/>
                </a:cubicBezTo>
                <a:cubicBezTo>
                  <a:pt x="17195" y="12866"/>
                  <a:pt x="17358" y="12815"/>
                  <a:pt x="17338" y="12998"/>
                </a:cubicBezTo>
                <a:cubicBezTo>
                  <a:pt x="17325" y="13119"/>
                  <a:pt x="17147" y="13182"/>
                  <a:pt x="17041" y="13146"/>
                </a:cubicBezTo>
                <a:cubicBezTo>
                  <a:pt x="16989" y="13095"/>
                  <a:pt x="16973" y="13076"/>
                  <a:pt x="17016" y="13022"/>
                </a:cubicBezTo>
              </a:path>
              <a:path w="4615" h="4019">
                <a:moveTo>
                  <a:pt x="17686" y="12650"/>
                </a:moveTo>
                <a:cubicBezTo>
                  <a:pt x="17786" y="12626"/>
                  <a:pt x="17884" y="12603"/>
                  <a:pt x="17983" y="12576"/>
                </a:cubicBezTo>
                <a:cubicBezTo>
                  <a:pt x="17991" y="12576"/>
                  <a:pt x="18000" y="12576"/>
                  <a:pt x="18008" y="12576"/>
                </a:cubicBezTo>
                <a:cubicBezTo>
                  <a:pt x="18008" y="12685"/>
                  <a:pt x="17983" y="12792"/>
                  <a:pt x="17959" y="12898"/>
                </a:cubicBezTo>
                <a:cubicBezTo>
                  <a:pt x="17942" y="12973"/>
                  <a:pt x="17918" y="13025"/>
                  <a:pt x="17909" y="13097"/>
                </a:cubicBezTo>
              </a:path>
              <a:path w="4615" h="4019">
                <a:moveTo>
                  <a:pt x="18430" y="13022"/>
                </a:moveTo>
                <a:cubicBezTo>
                  <a:pt x="18455" y="13022"/>
                  <a:pt x="18463" y="13022"/>
                  <a:pt x="18455" y="12998"/>
                </a:cubicBezTo>
                <a:cubicBezTo>
                  <a:pt x="18455" y="13010"/>
                  <a:pt x="18455" y="13114"/>
                  <a:pt x="18455" y="13047"/>
                </a:cubicBezTo>
              </a:path>
              <a:path w="4615" h="4019">
                <a:moveTo>
                  <a:pt x="19100" y="12551"/>
                </a:moveTo>
                <a:cubicBezTo>
                  <a:pt x="19100" y="12480"/>
                  <a:pt x="19051" y="12717"/>
                  <a:pt x="19050" y="12725"/>
                </a:cubicBezTo>
                <a:cubicBezTo>
                  <a:pt x="19035" y="12834"/>
                  <a:pt x="19018" y="12914"/>
                  <a:pt x="19050" y="13022"/>
                </a:cubicBezTo>
                <a:cubicBezTo>
                  <a:pt x="19092" y="13162"/>
                  <a:pt x="19182" y="13122"/>
                  <a:pt x="19298" y="13072"/>
                </a:cubicBezTo>
                <a:cubicBezTo>
                  <a:pt x="19406" y="13026"/>
                  <a:pt x="19463" y="12964"/>
                  <a:pt x="19472" y="12849"/>
                </a:cubicBezTo>
                <a:cubicBezTo>
                  <a:pt x="19472" y="12841"/>
                  <a:pt x="19472" y="12832"/>
                  <a:pt x="19472" y="12824"/>
                </a:cubicBezTo>
                <a:cubicBezTo>
                  <a:pt x="19341" y="12835"/>
                  <a:pt x="19297" y="12845"/>
                  <a:pt x="19248" y="12973"/>
                </a:cubicBezTo>
                <a:cubicBezTo>
                  <a:pt x="19229" y="13024"/>
                  <a:pt x="19200" y="13080"/>
                  <a:pt x="19248" y="13097"/>
                </a:cubicBezTo>
              </a:path>
              <a:path w="4615" h="4019">
                <a:moveTo>
                  <a:pt x="20216" y="12477"/>
                </a:moveTo>
                <a:cubicBezTo>
                  <a:pt x="20216" y="12396"/>
                  <a:pt x="20128" y="12366"/>
                  <a:pt x="20042" y="12378"/>
                </a:cubicBezTo>
                <a:cubicBezTo>
                  <a:pt x="19911" y="12397"/>
                  <a:pt x="19845" y="12485"/>
                  <a:pt x="19769" y="12576"/>
                </a:cubicBezTo>
                <a:cubicBezTo>
                  <a:pt x="19863" y="12736"/>
                  <a:pt x="19982" y="12734"/>
                  <a:pt x="20141" y="12824"/>
                </a:cubicBezTo>
                <a:cubicBezTo>
                  <a:pt x="20149" y="12832"/>
                  <a:pt x="20158" y="12841"/>
                  <a:pt x="20166" y="12849"/>
                </a:cubicBezTo>
                <a:cubicBezTo>
                  <a:pt x="20069" y="12957"/>
                  <a:pt x="20075" y="12939"/>
                  <a:pt x="19918" y="12948"/>
                </a:cubicBezTo>
                <a:cubicBezTo>
                  <a:pt x="19860" y="12794"/>
                  <a:pt x="19985" y="12751"/>
                  <a:pt x="20092" y="12650"/>
                </a:cubicBezTo>
                <a:cubicBezTo>
                  <a:pt x="20141" y="12604"/>
                  <a:pt x="20287" y="12513"/>
                  <a:pt x="20141" y="12576"/>
                </a:cubicBezTo>
              </a:path>
              <a:path w="4615" h="4019">
                <a:moveTo>
                  <a:pt x="19794" y="11559"/>
                </a:moveTo>
                <a:cubicBezTo>
                  <a:pt x="19773" y="11552"/>
                  <a:pt x="19756" y="11514"/>
                  <a:pt x="19720" y="11534"/>
                </a:cubicBezTo>
                <a:cubicBezTo>
                  <a:pt x="19654" y="11571"/>
                  <a:pt x="19573" y="11691"/>
                  <a:pt x="19546" y="11757"/>
                </a:cubicBezTo>
                <a:cubicBezTo>
                  <a:pt x="19495" y="11883"/>
                  <a:pt x="19537" y="12030"/>
                  <a:pt x="19695" y="12030"/>
                </a:cubicBezTo>
                <a:cubicBezTo>
                  <a:pt x="19851" y="12030"/>
                  <a:pt x="20060" y="11855"/>
                  <a:pt x="20042" y="11683"/>
                </a:cubicBezTo>
                <a:cubicBezTo>
                  <a:pt x="20022" y="11489"/>
                  <a:pt x="19833" y="11523"/>
                  <a:pt x="19720" y="11559"/>
                </a:cubicBezTo>
              </a:path>
              <a:path w="4615" h="4019">
                <a:moveTo>
                  <a:pt x="18604" y="11336"/>
                </a:moveTo>
                <a:cubicBezTo>
                  <a:pt x="18718" y="11382"/>
                  <a:pt x="18807" y="11628"/>
                  <a:pt x="18876" y="11733"/>
                </a:cubicBezTo>
                <a:cubicBezTo>
                  <a:pt x="18940" y="11830"/>
                  <a:pt x="19045" y="12043"/>
                  <a:pt x="19149" y="12105"/>
                </a:cubicBezTo>
                <a:cubicBezTo>
                  <a:pt x="19184" y="12105"/>
                  <a:pt x="19197" y="12114"/>
                  <a:pt x="19199" y="12154"/>
                </a:cubicBezTo>
              </a:path>
              <a:path w="4615" h="4019">
                <a:moveTo>
                  <a:pt x="19025" y="10468"/>
                </a:moveTo>
                <a:cubicBezTo>
                  <a:pt x="19001" y="10584"/>
                  <a:pt x="18979" y="10692"/>
                  <a:pt x="18976" y="10815"/>
                </a:cubicBezTo>
                <a:cubicBezTo>
                  <a:pt x="18976" y="10840"/>
                  <a:pt x="18976" y="10864"/>
                  <a:pt x="18976" y="10889"/>
                </a:cubicBezTo>
                <a:cubicBezTo>
                  <a:pt x="19060" y="10940"/>
                  <a:pt x="19133" y="10881"/>
                  <a:pt x="19174" y="10790"/>
                </a:cubicBezTo>
                <a:cubicBezTo>
                  <a:pt x="19182" y="10757"/>
                  <a:pt x="19191" y="10724"/>
                  <a:pt x="19199" y="10691"/>
                </a:cubicBezTo>
                <a:cubicBezTo>
                  <a:pt x="19099" y="10728"/>
                  <a:pt x="19057" y="10825"/>
                  <a:pt x="19025" y="10939"/>
                </a:cubicBezTo>
                <a:cubicBezTo>
                  <a:pt x="19025" y="10947"/>
                  <a:pt x="19025" y="10956"/>
                  <a:pt x="19025" y="10964"/>
                </a:cubicBezTo>
              </a:path>
              <a:path w="4615" h="4019">
                <a:moveTo>
                  <a:pt x="19422" y="11261"/>
                </a:moveTo>
                <a:cubicBezTo>
                  <a:pt x="19456" y="11375"/>
                  <a:pt x="19433" y="11465"/>
                  <a:pt x="19422" y="11584"/>
                </a:cubicBezTo>
              </a:path>
              <a:path w="4615" h="4019">
                <a:moveTo>
                  <a:pt x="19993" y="13717"/>
                </a:moveTo>
                <a:cubicBezTo>
                  <a:pt x="20081" y="13681"/>
                  <a:pt x="20132" y="13611"/>
                  <a:pt x="20241" y="13593"/>
                </a:cubicBezTo>
                <a:cubicBezTo>
                  <a:pt x="20299" y="13593"/>
                  <a:pt x="20307" y="13593"/>
                  <a:pt x="20340" y="13593"/>
                </a:cubicBezTo>
                <a:cubicBezTo>
                  <a:pt x="20313" y="13728"/>
                  <a:pt x="20201" y="13852"/>
                  <a:pt x="20092" y="13940"/>
                </a:cubicBezTo>
                <a:cubicBezTo>
                  <a:pt x="19989" y="14002"/>
                  <a:pt x="19966" y="14010"/>
                  <a:pt x="19918" y="14064"/>
                </a:cubicBezTo>
                <a:cubicBezTo>
                  <a:pt x="19942" y="14136"/>
                  <a:pt x="20068" y="14030"/>
                  <a:pt x="20117" y="14015"/>
                </a:cubicBezTo>
                <a:cubicBezTo>
                  <a:pt x="20182" y="13995"/>
                  <a:pt x="20271" y="13976"/>
                  <a:pt x="20340" y="13965"/>
                </a:cubicBezTo>
              </a:path>
              <a:path w="4615" h="4019">
                <a:moveTo>
                  <a:pt x="19422" y="13742"/>
                </a:moveTo>
                <a:cubicBezTo>
                  <a:pt x="19393" y="13655"/>
                  <a:pt x="19289" y="13817"/>
                  <a:pt x="19273" y="13841"/>
                </a:cubicBezTo>
                <a:cubicBezTo>
                  <a:pt x="19224" y="13913"/>
                  <a:pt x="19098" y="14114"/>
                  <a:pt x="19224" y="14188"/>
                </a:cubicBezTo>
                <a:cubicBezTo>
                  <a:pt x="19303" y="14234"/>
                  <a:pt x="19479" y="14170"/>
                  <a:pt x="19521" y="14089"/>
                </a:cubicBezTo>
                <a:cubicBezTo>
                  <a:pt x="19562" y="14010"/>
                  <a:pt x="19641" y="13792"/>
                  <a:pt x="19546" y="13717"/>
                </a:cubicBezTo>
                <a:cubicBezTo>
                  <a:pt x="19482" y="13666"/>
                  <a:pt x="19354" y="13714"/>
                  <a:pt x="19298" y="13742"/>
                </a:cubicBezTo>
              </a:path>
              <a:path w="4615" h="4019">
                <a:moveTo>
                  <a:pt x="18579" y="14163"/>
                </a:moveTo>
                <a:cubicBezTo>
                  <a:pt x="18579" y="14155"/>
                  <a:pt x="18579" y="14147"/>
                  <a:pt x="18579" y="14139"/>
                </a:cubicBezTo>
                <a:cubicBezTo>
                  <a:pt x="18554" y="14147"/>
                  <a:pt x="18503" y="14198"/>
                  <a:pt x="18554" y="14213"/>
                </a:cubicBezTo>
                <a:cubicBezTo>
                  <a:pt x="18638" y="14237"/>
                  <a:pt x="18623" y="14140"/>
                  <a:pt x="18628" y="14089"/>
                </a:cubicBezTo>
                <a:cubicBezTo>
                  <a:pt x="18595" y="14114"/>
                  <a:pt x="18570" y="14172"/>
                  <a:pt x="18529" y="14213"/>
                </a:cubicBezTo>
              </a:path>
              <a:path w="4615" h="4019">
                <a:moveTo>
                  <a:pt x="16966" y="11509"/>
                </a:moveTo>
                <a:cubicBezTo>
                  <a:pt x="16966" y="11463"/>
                  <a:pt x="16979" y="11521"/>
                  <a:pt x="16991" y="11534"/>
                </a:cubicBezTo>
                <a:cubicBezTo>
                  <a:pt x="17130" y="11690"/>
                  <a:pt x="17204" y="11912"/>
                  <a:pt x="17289" y="12105"/>
                </a:cubicBezTo>
                <a:cubicBezTo>
                  <a:pt x="17318" y="12172"/>
                  <a:pt x="17352" y="12283"/>
                  <a:pt x="17413" y="12303"/>
                </a:cubicBezTo>
              </a:path>
              <a:path w="4615" h="4019">
                <a:moveTo>
                  <a:pt x="17041" y="10914"/>
                </a:moveTo>
                <a:cubicBezTo>
                  <a:pt x="17146" y="10932"/>
                  <a:pt x="17184" y="10924"/>
                  <a:pt x="17289" y="10889"/>
                </a:cubicBezTo>
                <a:cubicBezTo>
                  <a:pt x="17369" y="10862"/>
                  <a:pt x="17360" y="10849"/>
                  <a:pt x="17413" y="10889"/>
                </a:cubicBezTo>
                <a:cubicBezTo>
                  <a:pt x="17364" y="11012"/>
                  <a:pt x="17221" y="11329"/>
                  <a:pt x="17314" y="11460"/>
                </a:cubicBezTo>
                <a:cubicBezTo>
                  <a:pt x="17330" y="11452"/>
                  <a:pt x="17347" y="11443"/>
                  <a:pt x="17363" y="11435"/>
                </a:cubicBezTo>
              </a:path>
              <a:path w="4615" h="4019">
                <a:moveTo>
                  <a:pt x="17711" y="11336"/>
                </a:moveTo>
                <a:cubicBezTo>
                  <a:pt x="17711" y="11412"/>
                  <a:pt x="17689" y="11482"/>
                  <a:pt x="17686" y="11559"/>
                </a:cubicBezTo>
                <a:cubicBezTo>
                  <a:pt x="17686" y="11576"/>
                  <a:pt x="17686" y="11592"/>
                  <a:pt x="17686" y="11609"/>
                </a:cubicBezTo>
              </a:path>
              <a:path w="4615" h="4019">
                <a:moveTo>
                  <a:pt x="17735" y="11212"/>
                </a:moveTo>
                <a:cubicBezTo>
                  <a:pt x="17739" y="11201"/>
                  <a:pt x="17821" y="11166"/>
                  <a:pt x="17785" y="11137"/>
                </a:cubicBezTo>
                <a:cubicBezTo>
                  <a:pt x="17777" y="11137"/>
                  <a:pt x="17768" y="11137"/>
                  <a:pt x="17760" y="11137"/>
                </a:cubicBezTo>
                <a:cubicBezTo>
                  <a:pt x="17707" y="11031"/>
                  <a:pt x="17677" y="11299"/>
                  <a:pt x="17636" y="11410"/>
                </a:cubicBezTo>
                <a:cubicBezTo>
                  <a:pt x="17630" y="11425"/>
                  <a:pt x="17441" y="11920"/>
                  <a:pt x="17512" y="11708"/>
                </a:cubicBezTo>
                <a:cubicBezTo>
                  <a:pt x="17560" y="11564"/>
                  <a:pt x="17567" y="11399"/>
                  <a:pt x="17611" y="11261"/>
                </a:cubicBezTo>
                <a:cubicBezTo>
                  <a:pt x="17619" y="11253"/>
                  <a:pt x="17628" y="11245"/>
                  <a:pt x="17636" y="11237"/>
                </a:cubicBezTo>
              </a:path>
              <a:path w="4615" h="4019">
                <a:moveTo>
                  <a:pt x="17661" y="13742"/>
                </a:moveTo>
                <a:cubicBezTo>
                  <a:pt x="17789" y="13729"/>
                  <a:pt x="17903" y="13697"/>
                  <a:pt x="18033" y="13692"/>
                </a:cubicBezTo>
                <a:cubicBezTo>
                  <a:pt x="18074" y="13692"/>
                  <a:pt x="18082" y="13692"/>
                  <a:pt x="18107" y="13692"/>
                </a:cubicBezTo>
                <a:cubicBezTo>
                  <a:pt x="18077" y="13860"/>
                  <a:pt x="17992" y="14003"/>
                  <a:pt x="17934" y="14163"/>
                </a:cubicBezTo>
                <a:cubicBezTo>
                  <a:pt x="17913" y="14247"/>
                  <a:pt x="17912" y="14267"/>
                  <a:pt x="17884" y="14312"/>
                </a:cubicBezTo>
              </a:path>
              <a:path w="4615" h="4019">
                <a:moveTo>
                  <a:pt x="17239" y="13767"/>
                </a:moveTo>
                <a:cubicBezTo>
                  <a:pt x="17186" y="13784"/>
                  <a:pt x="17097" y="13976"/>
                  <a:pt x="17066" y="14039"/>
                </a:cubicBezTo>
                <a:cubicBezTo>
                  <a:pt x="17044" y="14106"/>
                  <a:pt x="17039" y="14124"/>
                  <a:pt x="17016" y="14163"/>
                </a:cubicBezTo>
                <a:cubicBezTo>
                  <a:pt x="17144" y="14183"/>
                  <a:pt x="17316" y="14150"/>
                  <a:pt x="17438" y="14089"/>
                </a:cubicBezTo>
                <a:cubicBezTo>
                  <a:pt x="17438" y="14081"/>
                  <a:pt x="17438" y="14072"/>
                  <a:pt x="17438" y="14064"/>
                </a:cubicBezTo>
              </a:path>
              <a:path w="4615" h="4019">
                <a:moveTo>
                  <a:pt x="17438" y="13618"/>
                </a:moveTo>
                <a:cubicBezTo>
                  <a:pt x="17421" y="13815"/>
                  <a:pt x="17389" y="14016"/>
                  <a:pt x="17363" y="14213"/>
                </a:cubicBezTo>
                <a:cubicBezTo>
                  <a:pt x="17351" y="14301"/>
                  <a:pt x="17350" y="14411"/>
                  <a:pt x="17314" y="1448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75040" y="5902200"/>
            <a:ext cx="2635200" cy="822600"/>
          </a:xfrm>
          <a:custGeom>
            <a:avLst/>
            <a:gdLst/>
            <a:ahLst/>
            <a:rect l="l" t="t" r="r" b="b"/>
            <a:pathLst>
              <a:path w="7319" h="2283">
                <a:moveTo>
                  <a:pt x="12700" y="18132"/>
                </a:moveTo>
                <a:cubicBezTo>
                  <a:pt x="12715" y="18112"/>
                  <a:pt x="12710" y="18103"/>
                  <a:pt x="12725" y="18083"/>
                </a:cubicBezTo>
                <a:cubicBezTo>
                  <a:pt x="12741" y="18138"/>
                  <a:pt x="12739" y="18227"/>
                  <a:pt x="12650" y="18306"/>
                </a:cubicBezTo>
                <a:cubicBezTo>
                  <a:pt x="12450" y="18482"/>
                  <a:pt x="12183" y="18519"/>
                  <a:pt x="11931" y="18479"/>
                </a:cubicBezTo>
                <a:cubicBezTo>
                  <a:pt x="11755" y="18451"/>
                  <a:pt x="11747" y="18420"/>
                  <a:pt x="11733" y="18281"/>
                </a:cubicBezTo>
                <a:cubicBezTo>
                  <a:pt x="11733" y="18273"/>
                  <a:pt x="11733" y="18264"/>
                  <a:pt x="11733" y="18256"/>
                </a:cubicBezTo>
                <a:cubicBezTo>
                  <a:pt x="11766" y="18348"/>
                  <a:pt x="11760" y="18427"/>
                  <a:pt x="11683" y="18504"/>
                </a:cubicBezTo>
                <a:cubicBezTo>
                  <a:pt x="11601" y="18587"/>
                  <a:pt x="11423" y="18662"/>
                  <a:pt x="11311" y="18678"/>
                </a:cubicBezTo>
                <a:cubicBezTo>
                  <a:pt x="11153" y="18701"/>
                  <a:pt x="10912" y="18665"/>
                  <a:pt x="10790" y="18554"/>
                </a:cubicBezTo>
                <a:cubicBezTo>
                  <a:pt x="10716" y="18487"/>
                  <a:pt x="10784" y="18433"/>
                  <a:pt x="10840" y="18405"/>
                </a:cubicBezTo>
                <a:cubicBezTo>
                  <a:pt x="10848" y="18405"/>
                  <a:pt x="10856" y="18405"/>
                  <a:pt x="10864" y="18405"/>
                </a:cubicBezTo>
                <a:cubicBezTo>
                  <a:pt x="10855" y="18485"/>
                  <a:pt x="10833" y="18512"/>
                  <a:pt x="10790" y="18579"/>
                </a:cubicBezTo>
                <a:cubicBezTo>
                  <a:pt x="10768" y="18622"/>
                  <a:pt x="10755" y="18634"/>
                  <a:pt x="10790" y="18653"/>
                </a:cubicBezTo>
                <a:cubicBezTo>
                  <a:pt x="10853" y="18590"/>
                  <a:pt x="10858" y="18563"/>
                  <a:pt x="10864" y="18455"/>
                </a:cubicBezTo>
                <a:cubicBezTo>
                  <a:pt x="10864" y="18447"/>
                  <a:pt x="10864" y="18438"/>
                  <a:pt x="10864" y="18430"/>
                </a:cubicBezTo>
                <a:cubicBezTo>
                  <a:pt x="10831" y="18442"/>
                  <a:pt x="10709" y="18474"/>
                  <a:pt x="10765" y="18554"/>
                </a:cubicBezTo>
                <a:cubicBezTo>
                  <a:pt x="10819" y="18632"/>
                  <a:pt x="10974" y="18570"/>
                  <a:pt x="10964" y="18479"/>
                </a:cubicBezTo>
                <a:cubicBezTo>
                  <a:pt x="10952" y="18370"/>
                  <a:pt x="10873" y="18454"/>
                  <a:pt x="10840" y="18479"/>
                </a:cubicBezTo>
              </a:path>
              <a:path w="7319" h="2283">
                <a:moveTo>
                  <a:pt x="14957" y="17264"/>
                </a:moveTo>
                <a:cubicBezTo>
                  <a:pt x="14988" y="17487"/>
                  <a:pt x="15026" y="17709"/>
                  <a:pt x="15032" y="17934"/>
                </a:cubicBezTo>
                <a:cubicBezTo>
                  <a:pt x="15034" y="18010"/>
                  <a:pt x="15019" y="18017"/>
                  <a:pt x="15081" y="18033"/>
                </a:cubicBezTo>
              </a:path>
              <a:path w="7319" h="2283">
                <a:moveTo>
                  <a:pt x="15627" y="17810"/>
                </a:moveTo>
                <a:cubicBezTo>
                  <a:pt x="15627" y="17818"/>
                  <a:pt x="15627" y="17963"/>
                  <a:pt x="15627" y="17835"/>
                </a:cubicBezTo>
              </a:path>
              <a:path w="7319" h="2283">
                <a:moveTo>
                  <a:pt x="16222" y="17239"/>
                </a:moveTo>
                <a:cubicBezTo>
                  <a:pt x="16371" y="17180"/>
                  <a:pt x="16515" y="17223"/>
                  <a:pt x="16594" y="17388"/>
                </a:cubicBezTo>
                <a:cubicBezTo>
                  <a:pt x="16694" y="17597"/>
                  <a:pt x="16477" y="17772"/>
                  <a:pt x="16297" y="17810"/>
                </a:cubicBezTo>
                <a:cubicBezTo>
                  <a:pt x="16165" y="17838"/>
                  <a:pt x="16147" y="17807"/>
                  <a:pt x="16123" y="17711"/>
                </a:cubicBezTo>
                <a:cubicBezTo>
                  <a:pt x="16315" y="17650"/>
                  <a:pt x="16432" y="17632"/>
                  <a:pt x="16594" y="17760"/>
                </a:cubicBezTo>
                <a:cubicBezTo>
                  <a:pt x="16629" y="17795"/>
                  <a:pt x="16651" y="17799"/>
                  <a:pt x="16694" y="17760"/>
                </a:cubicBezTo>
              </a:path>
              <a:path w="7319" h="2283">
                <a:moveTo>
                  <a:pt x="16966" y="17066"/>
                </a:moveTo>
                <a:cubicBezTo>
                  <a:pt x="16855" y="17155"/>
                  <a:pt x="16820" y="17174"/>
                  <a:pt x="16793" y="17264"/>
                </a:cubicBezTo>
                <a:cubicBezTo>
                  <a:pt x="16926" y="17496"/>
                  <a:pt x="17050" y="17479"/>
                  <a:pt x="17264" y="17611"/>
                </a:cubicBezTo>
                <a:cubicBezTo>
                  <a:pt x="17289" y="17636"/>
                  <a:pt x="17313" y="17661"/>
                  <a:pt x="17338" y="17686"/>
                </a:cubicBezTo>
                <a:cubicBezTo>
                  <a:pt x="17247" y="17727"/>
                  <a:pt x="17027" y="17749"/>
                  <a:pt x="17041" y="17562"/>
                </a:cubicBezTo>
                <a:cubicBezTo>
                  <a:pt x="17056" y="17362"/>
                  <a:pt x="17375" y="17279"/>
                  <a:pt x="17388" y="17140"/>
                </a:cubicBezTo>
                <a:cubicBezTo>
                  <a:pt x="17371" y="17140"/>
                  <a:pt x="17355" y="17140"/>
                  <a:pt x="17338" y="17140"/>
                </a:cubicBezTo>
              </a:path>
              <a:path w="7319" h="2283">
                <a:moveTo>
                  <a:pt x="14387" y="18281"/>
                </a:moveTo>
                <a:cubicBezTo>
                  <a:pt x="14719" y="18233"/>
                  <a:pt x="15046" y="18238"/>
                  <a:pt x="15379" y="18207"/>
                </a:cubicBezTo>
                <a:cubicBezTo>
                  <a:pt x="16031" y="18146"/>
                  <a:pt x="16604" y="17997"/>
                  <a:pt x="17214" y="17760"/>
                </a:cubicBezTo>
                <a:cubicBezTo>
                  <a:pt x="17535" y="17635"/>
                  <a:pt x="18141" y="17486"/>
                  <a:pt x="18083" y="17016"/>
                </a:cubicBezTo>
                <a:cubicBezTo>
                  <a:pt x="18023" y="16531"/>
                  <a:pt x="17495" y="16410"/>
                  <a:pt x="17090" y="16396"/>
                </a:cubicBezTo>
                <a:cubicBezTo>
                  <a:pt x="16353" y="16371"/>
                  <a:pt x="15510" y="16501"/>
                  <a:pt x="14808" y="16718"/>
                </a:cubicBezTo>
                <a:cubicBezTo>
                  <a:pt x="14241" y="16893"/>
                  <a:pt x="13881" y="17121"/>
                  <a:pt x="13444" y="17487"/>
                </a:cubicBezTo>
                <a:cubicBezTo>
                  <a:pt x="13685" y="18073"/>
                  <a:pt x="14387" y="18020"/>
                  <a:pt x="15007" y="18033"/>
                </a:cubicBezTo>
                <a:cubicBezTo>
                  <a:pt x="15222" y="18025"/>
                  <a:pt x="15437" y="18016"/>
                  <a:pt x="15652" y="180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86280" y="4786200"/>
            <a:ext cx="1660680" cy="81000"/>
          </a:xfrm>
          <a:custGeom>
            <a:avLst/>
            <a:gdLst/>
            <a:ahLst/>
            <a:rect l="l" t="t" r="r" b="b"/>
            <a:pathLst>
              <a:path w="4615" h="225">
                <a:moveTo>
                  <a:pt x="16073" y="13519"/>
                </a:moveTo>
                <a:cubicBezTo>
                  <a:pt x="16389" y="13519"/>
                  <a:pt x="16700" y="13497"/>
                  <a:pt x="17016" y="13494"/>
                </a:cubicBezTo>
                <a:cubicBezTo>
                  <a:pt x="17579" y="13489"/>
                  <a:pt x="18141" y="13490"/>
                  <a:pt x="18703" y="13469"/>
                </a:cubicBezTo>
                <a:cubicBezTo>
                  <a:pt x="19301" y="13447"/>
                  <a:pt x="19949" y="13447"/>
                  <a:pt x="20538" y="13320"/>
                </a:cubicBezTo>
                <a:cubicBezTo>
                  <a:pt x="20601" y="13307"/>
                  <a:pt x="20628" y="13300"/>
                  <a:pt x="20687" y="1329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24200" y="5419800"/>
            <a:ext cx="214560" cy="322200"/>
          </a:xfrm>
          <a:custGeom>
            <a:avLst/>
            <a:gdLst/>
            <a:ahLst/>
            <a:rect l="l" t="t" r="r" b="b"/>
            <a:pathLst>
              <a:path w="596" h="894">
                <a:moveTo>
                  <a:pt x="10517" y="15106"/>
                </a:moveTo>
                <a:cubicBezTo>
                  <a:pt x="10436" y="15126"/>
                  <a:pt x="10479" y="15102"/>
                  <a:pt x="10542" y="15081"/>
                </a:cubicBezTo>
                <a:cubicBezTo>
                  <a:pt x="10664" y="15040"/>
                  <a:pt x="10891" y="15009"/>
                  <a:pt x="10815" y="15205"/>
                </a:cubicBezTo>
                <a:cubicBezTo>
                  <a:pt x="10741" y="15328"/>
                  <a:pt x="10717" y="15368"/>
                  <a:pt x="10641" y="15429"/>
                </a:cubicBezTo>
                <a:cubicBezTo>
                  <a:pt x="10625" y="15437"/>
                  <a:pt x="10608" y="15445"/>
                  <a:pt x="10592" y="15453"/>
                </a:cubicBezTo>
                <a:cubicBezTo>
                  <a:pt x="10664" y="15381"/>
                  <a:pt x="10805" y="15336"/>
                  <a:pt x="10889" y="15453"/>
                </a:cubicBezTo>
                <a:cubicBezTo>
                  <a:pt x="11024" y="15640"/>
                  <a:pt x="10856" y="15819"/>
                  <a:pt x="10691" y="15900"/>
                </a:cubicBezTo>
                <a:cubicBezTo>
                  <a:pt x="10497" y="15995"/>
                  <a:pt x="10338" y="15945"/>
                  <a:pt x="10393" y="157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62240" y="5688000"/>
            <a:ext cx="9720" cy="9360"/>
          </a:xfrm>
          <a:custGeom>
            <a:avLst/>
            <a:gdLst/>
            <a:ahLst/>
            <a:rect l="l" t="t" r="r" b="b"/>
            <a:pathLst>
              <a:path w="26" h="25">
                <a:moveTo>
                  <a:pt x="11286" y="15801"/>
                </a:moveTo>
                <a:cubicBezTo>
                  <a:pt x="11286" y="15825"/>
                  <a:pt x="11286" y="15833"/>
                  <a:pt x="11311" y="158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24240" y="5411880"/>
            <a:ext cx="241560" cy="295200"/>
          </a:xfrm>
          <a:custGeom>
            <a:avLst/>
            <a:gdLst/>
            <a:ahLst/>
            <a:rect l="l" t="t" r="r" b="b"/>
            <a:pathLst>
              <a:path w="670" h="819">
                <a:moveTo>
                  <a:pt x="11733" y="15156"/>
                </a:moveTo>
                <a:cubicBezTo>
                  <a:pt x="11771" y="15058"/>
                  <a:pt x="11893" y="14999"/>
                  <a:pt x="12005" y="15032"/>
                </a:cubicBezTo>
                <a:cubicBezTo>
                  <a:pt x="12239" y="15101"/>
                  <a:pt x="12292" y="15423"/>
                  <a:pt x="12179" y="15602"/>
                </a:cubicBezTo>
                <a:cubicBezTo>
                  <a:pt x="12072" y="15772"/>
                  <a:pt x="11929" y="15760"/>
                  <a:pt x="11757" y="15776"/>
                </a:cubicBezTo>
                <a:cubicBezTo>
                  <a:pt x="11747" y="15595"/>
                  <a:pt x="11811" y="15489"/>
                  <a:pt x="12030" y="15528"/>
                </a:cubicBezTo>
                <a:cubicBezTo>
                  <a:pt x="12141" y="15548"/>
                  <a:pt x="12327" y="15695"/>
                  <a:pt x="12378" y="15801"/>
                </a:cubicBezTo>
                <a:cubicBezTo>
                  <a:pt x="12378" y="15842"/>
                  <a:pt x="12370" y="15858"/>
                  <a:pt x="12402" y="158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95800" y="5929200"/>
            <a:ext cx="142560" cy="18756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9153" y="16470"/>
                </a:moveTo>
                <a:cubicBezTo>
                  <a:pt x="9272" y="16530"/>
                  <a:pt x="9325" y="16658"/>
                  <a:pt x="9401" y="16768"/>
                </a:cubicBezTo>
                <a:cubicBezTo>
                  <a:pt x="9453" y="16844"/>
                  <a:pt x="9505" y="16911"/>
                  <a:pt x="9550" y="169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6080" y="5867280"/>
            <a:ext cx="152280" cy="303480"/>
          </a:xfrm>
          <a:custGeom>
            <a:avLst/>
            <a:gdLst/>
            <a:ahLst/>
            <a:rect l="l" t="t" r="r" b="b"/>
            <a:pathLst>
              <a:path w="423" h="844">
                <a:moveTo>
                  <a:pt x="9550" y="16297"/>
                </a:moveTo>
                <a:cubicBezTo>
                  <a:pt x="9465" y="16537"/>
                  <a:pt x="9355" y="16746"/>
                  <a:pt x="9227" y="16966"/>
                </a:cubicBezTo>
                <a:cubicBezTo>
                  <a:pt x="9182" y="17043"/>
                  <a:pt x="9170" y="17084"/>
                  <a:pt x="9128" y="1714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59160" y="5884920"/>
            <a:ext cx="223920" cy="142920"/>
          </a:xfrm>
          <a:custGeom>
            <a:avLst/>
            <a:gdLst/>
            <a:ahLst/>
            <a:rect l="l" t="t" r="r" b="b"/>
            <a:pathLst>
              <a:path w="621" h="398">
                <a:moveTo>
                  <a:pt x="11832" y="16396"/>
                </a:moveTo>
                <a:cubicBezTo>
                  <a:pt x="11832" y="16489"/>
                  <a:pt x="11795" y="16646"/>
                  <a:pt x="11857" y="16718"/>
                </a:cubicBezTo>
                <a:cubicBezTo>
                  <a:pt x="11937" y="16811"/>
                  <a:pt x="12230" y="16692"/>
                  <a:pt x="12303" y="16644"/>
                </a:cubicBezTo>
                <a:cubicBezTo>
                  <a:pt x="12452" y="16547"/>
                  <a:pt x="12435" y="16493"/>
                  <a:pt x="12427" y="163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75080" y="5786280"/>
            <a:ext cx="9720" cy="304920"/>
          </a:xfrm>
          <a:custGeom>
            <a:avLst/>
            <a:gdLst/>
            <a:ahLst/>
            <a:rect l="l" t="t" r="r" b="b"/>
            <a:pathLst>
              <a:path w="26" h="845">
                <a:moveTo>
                  <a:pt x="12179" y="16073"/>
                </a:moveTo>
                <a:cubicBezTo>
                  <a:pt x="12179" y="16332"/>
                  <a:pt x="12175" y="16586"/>
                  <a:pt x="12154" y="16842"/>
                </a:cubicBezTo>
                <a:cubicBezTo>
                  <a:pt x="12154" y="16867"/>
                  <a:pt x="12154" y="16892"/>
                  <a:pt x="12154" y="1691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06880" y="6116760"/>
            <a:ext cx="28440" cy="36360"/>
          </a:xfrm>
          <a:custGeom>
            <a:avLst/>
            <a:gdLst/>
            <a:ahLst/>
            <a:rect l="l" t="t" r="r" b="b"/>
            <a:pathLst>
              <a:path w="76" h="100">
                <a:moveTo>
                  <a:pt x="11435" y="16991"/>
                </a:moveTo>
                <a:cubicBezTo>
                  <a:pt x="11412" y="17029"/>
                  <a:pt x="11410" y="17042"/>
                  <a:pt x="11410" y="17090"/>
                </a:cubicBezTo>
                <a:cubicBezTo>
                  <a:pt x="11435" y="17084"/>
                  <a:pt x="11504" y="17058"/>
                  <a:pt x="11485" y="17016"/>
                </a:cubicBezTo>
                <a:cubicBezTo>
                  <a:pt x="11462" y="16993"/>
                  <a:pt x="11458" y="16985"/>
                  <a:pt x="11435" y="169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59080" y="6153120"/>
            <a:ext cx="1401840" cy="177840"/>
          </a:xfrm>
          <a:custGeom>
            <a:avLst/>
            <a:gdLst/>
            <a:ahLst/>
            <a:rect l="l" t="t" r="r" b="b"/>
            <a:pathLst>
              <a:path w="3895" h="498">
                <a:moveTo>
                  <a:pt x="9054" y="17587"/>
                </a:moveTo>
                <a:cubicBezTo>
                  <a:pt x="9195" y="17570"/>
                  <a:pt x="9353" y="17555"/>
                  <a:pt x="9500" y="17537"/>
                </a:cubicBezTo>
                <a:cubicBezTo>
                  <a:pt x="9939" y="17483"/>
                  <a:pt x="10376" y="17420"/>
                  <a:pt x="10815" y="17363"/>
                </a:cubicBezTo>
                <a:cubicBezTo>
                  <a:pt x="11401" y="17287"/>
                  <a:pt x="11991" y="17230"/>
                  <a:pt x="12576" y="17140"/>
                </a:cubicBezTo>
                <a:cubicBezTo>
                  <a:pt x="12747" y="17114"/>
                  <a:pt x="12809" y="17102"/>
                  <a:pt x="12948" y="170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02080" y="6313320"/>
            <a:ext cx="152280" cy="250920"/>
          </a:xfrm>
          <a:custGeom>
            <a:avLst/>
            <a:gdLst/>
            <a:ahLst/>
            <a:rect l="l" t="t" r="r" b="b"/>
            <a:pathLst>
              <a:path w="422" h="695">
                <a:moveTo>
                  <a:pt x="12576" y="17537"/>
                </a:moveTo>
                <a:cubicBezTo>
                  <a:pt x="12397" y="17560"/>
                  <a:pt x="12343" y="17600"/>
                  <a:pt x="12254" y="17760"/>
                </a:cubicBezTo>
                <a:cubicBezTo>
                  <a:pt x="12168" y="17913"/>
                  <a:pt x="12442" y="17965"/>
                  <a:pt x="12526" y="18008"/>
                </a:cubicBezTo>
                <a:cubicBezTo>
                  <a:pt x="12595" y="18054"/>
                  <a:pt x="12615" y="18066"/>
                  <a:pt x="12650" y="18107"/>
                </a:cubicBezTo>
                <a:cubicBezTo>
                  <a:pt x="12604" y="18145"/>
                  <a:pt x="12359" y="18334"/>
                  <a:pt x="12328" y="18182"/>
                </a:cubicBezTo>
                <a:cubicBezTo>
                  <a:pt x="12292" y="18002"/>
                  <a:pt x="12503" y="17848"/>
                  <a:pt x="12576" y="17711"/>
                </a:cubicBezTo>
                <a:cubicBezTo>
                  <a:pt x="12576" y="17703"/>
                  <a:pt x="12576" y="17694"/>
                  <a:pt x="12576" y="1768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76760" y="6392880"/>
            <a:ext cx="36360" cy="250920"/>
          </a:xfrm>
          <a:custGeom>
            <a:avLst/>
            <a:gdLst/>
            <a:ahLst/>
            <a:rect l="l" t="t" r="r" b="b"/>
            <a:pathLst>
              <a:path w="101" h="696">
                <a:moveTo>
                  <a:pt x="10492" y="17785"/>
                </a:moveTo>
                <a:cubicBezTo>
                  <a:pt x="10492" y="17659"/>
                  <a:pt x="10534" y="17982"/>
                  <a:pt x="10542" y="18107"/>
                </a:cubicBezTo>
                <a:cubicBezTo>
                  <a:pt x="10549" y="18221"/>
                  <a:pt x="10489" y="18421"/>
                  <a:pt x="10592" y="1845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9040" y="6392880"/>
            <a:ext cx="187200" cy="223920"/>
          </a:xfrm>
          <a:custGeom>
            <a:avLst/>
            <a:gdLst/>
            <a:ahLst/>
            <a:rect l="l" t="t" r="r" b="b"/>
            <a:pathLst>
              <a:path w="522" h="621">
                <a:moveTo>
                  <a:pt x="10964" y="17859"/>
                </a:moveTo>
                <a:cubicBezTo>
                  <a:pt x="10982" y="17806"/>
                  <a:pt x="11121" y="17752"/>
                  <a:pt x="11187" y="17760"/>
                </a:cubicBezTo>
                <a:cubicBezTo>
                  <a:pt x="11402" y="17785"/>
                  <a:pt x="11449" y="17989"/>
                  <a:pt x="11361" y="18157"/>
                </a:cubicBezTo>
                <a:cubicBezTo>
                  <a:pt x="11256" y="18358"/>
                  <a:pt x="11098" y="18384"/>
                  <a:pt x="10914" y="18331"/>
                </a:cubicBezTo>
                <a:cubicBezTo>
                  <a:pt x="10931" y="18192"/>
                  <a:pt x="10974" y="18052"/>
                  <a:pt x="11162" y="18083"/>
                </a:cubicBezTo>
                <a:cubicBezTo>
                  <a:pt x="11270" y="18101"/>
                  <a:pt x="11335" y="18209"/>
                  <a:pt x="11385" y="18281"/>
                </a:cubicBezTo>
                <a:cubicBezTo>
                  <a:pt x="11408" y="18304"/>
                  <a:pt x="11412" y="18312"/>
                  <a:pt x="11435" y="183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54320" y="5688000"/>
            <a:ext cx="438480" cy="142920"/>
          </a:xfrm>
          <a:custGeom>
            <a:avLst/>
            <a:gdLst/>
            <a:ahLst/>
            <a:rect l="l" t="t" r="r" b="b"/>
            <a:pathLst>
              <a:path w="1217" h="397">
                <a:moveTo>
                  <a:pt x="11286" y="15900"/>
                </a:moveTo>
                <a:cubicBezTo>
                  <a:pt x="11257" y="15814"/>
                  <a:pt x="11272" y="15970"/>
                  <a:pt x="11286" y="15999"/>
                </a:cubicBezTo>
                <a:cubicBezTo>
                  <a:pt x="11370" y="16177"/>
                  <a:pt x="11582" y="16217"/>
                  <a:pt x="11757" y="16197"/>
                </a:cubicBezTo>
                <a:cubicBezTo>
                  <a:pt x="12028" y="16166"/>
                  <a:pt x="12201" y="16007"/>
                  <a:pt x="12402" y="15850"/>
                </a:cubicBezTo>
                <a:cubicBezTo>
                  <a:pt x="12459" y="15813"/>
                  <a:pt x="12484" y="15775"/>
                  <a:pt x="12477" y="158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6240" y="5938920"/>
            <a:ext cx="465120" cy="214200"/>
          </a:xfrm>
          <a:custGeom>
            <a:avLst/>
            <a:gdLst/>
            <a:ahLst/>
            <a:rect l="l" t="t" r="r" b="b"/>
            <a:pathLst>
              <a:path w="1291" h="596">
                <a:moveTo>
                  <a:pt x="11435" y="16917"/>
                </a:moveTo>
                <a:cubicBezTo>
                  <a:pt x="11487" y="16962"/>
                  <a:pt x="11573" y="17044"/>
                  <a:pt x="11658" y="17066"/>
                </a:cubicBezTo>
                <a:cubicBezTo>
                  <a:pt x="11922" y="17134"/>
                  <a:pt x="12198" y="17086"/>
                  <a:pt x="12427" y="16942"/>
                </a:cubicBezTo>
                <a:cubicBezTo>
                  <a:pt x="12599" y="16834"/>
                  <a:pt x="12736" y="16693"/>
                  <a:pt x="12700" y="1649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64000" y="5018040"/>
            <a:ext cx="81000" cy="250920"/>
          </a:xfrm>
          <a:custGeom>
            <a:avLst/>
            <a:gdLst/>
            <a:ahLst/>
            <a:rect l="l" t="t" r="r" b="b"/>
            <a:pathLst>
              <a:path w="225" h="696">
                <a:moveTo>
                  <a:pt x="12402" y="13940"/>
                </a:moveTo>
                <a:cubicBezTo>
                  <a:pt x="12484" y="14171"/>
                  <a:pt x="12549" y="14400"/>
                  <a:pt x="12626" y="1463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10080" y="5037120"/>
            <a:ext cx="142920" cy="820800"/>
          </a:xfrm>
          <a:custGeom>
            <a:avLst/>
            <a:gdLst/>
            <a:ahLst/>
            <a:rect l="l" t="t" r="r" b="b"/>
            <a:pathLst>
              <a:path w="398" h="2283">
                <a:moveTo>
                  <a:pt x="12526" y="13990"/>
                </a:moveTo>
                <a:cubicBezTo>
                  <a:pt x="12581" y="14175"/>
                  <a:pt x="12613" y="14367"/>
                  <a:pt x="12650" y="14560"/>
                </a:cubicBezTo>
                <a:cubicBezTo>
                  <a:pt x="12741" y="15029"/>
                  <a:pt x="12801" y="15502"/>
                  <a:pt x="12874" y="15974"/>
                </a:cubicBezTo>
                <a:cubicBezTo>
                  <a:pt x="12899" y="16134"/>
                  <a:pt x="12949" y="16249"/>
                  <a:pt x="12898" y="1622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5545080"/>
            <a:ext cx="98280" cy="625680"/>
          </a:xfrm>
          <a:custGeom>
            <a:avLst/>
            <a:gdLst/>
            <a:ahLst/>
            <a:rect l="l" t="t" r="r" b="b"/>
            <a:pathLst>
              <a:path w="274" h="1737">
                <a:moveTo>
                  <a:pt x="12700" y="15404"/>
                </a:moveTo>
                <a:cubicBezTo>
                  <a:pt x="12722" y="15693"/>
                  <a:pt x="12767" y="15985"/>
                  <a:pt x="12824" y="16272"/>
                </a:cubicBezTo>
                <a:cubicBezTo>
                  <a:pt x="12859" y="16449"/>
                  <a:pt x="12898" y="16623"/>
                  <a:pt x="12948" y="16793"/>
                </a:cubicBezTo>
                <a:cubicBezTo>
                  <a:pt x="12960" y="16833"/>
                  <a:pt x="12941" y="16826"/>
                  <a:pt x="12948" y="16867"/>
                </a:cubicBezTo>
                <a:cubicBezTo>
                  <a:pt x="12963" y="16949"/>
                  <a:pt x="12973" y="16983"/>
                  <a:pt x="12973" y="17066"/>
                </a:cubicBezTo>
                <a:cubicBezTo>
                  <a:pt x="12973" y="17041"/>
                  <a:pt x="12992" y="16967"/>
                  <a:pt x="12973" y="17016"/>
                </a:cubicBezTo>
                <a:cubicBezTo>
                  <a:pt x="12960" y="17050"/>
                  <a:pt x="12927" y="17130"/>
                  <a:pt x="12923" y="17140"/>
                </a:cubicBezTo>
                <a:cubicBezTo>
                  <a:pt x="12917" y="17069"/>
                  <a:pt x="12905" y="17013"/>
                  <a:pt x="12898" y="1694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divide a decimal by a whol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 Divide a decimal by a whole number just like you would divide a whole number by a whole number - ignore the dec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 Once you have your quotient, move the decimal in the dividend directly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666880" y="5334120"/>
                <a:ext cx="19051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¸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616280" y="6197760"/>
            <a:ext cx="1800" cy="17280"/>
          </a:xfrm>
          <a:custGeom>
            <a:avLst/>
            <a:gdLst/>
            <a:ahLst/>
            <a:rect l="l" t="t" r="r" b="b"/>
            <a:pathLst>
              <a:path w="1" h="51">
                <a:moveTo>
                  <a:pt x="12824" y="17264"/>
                </a:moveTo>
                <a:cubicBezTo>
                  <a:pt x="12824" y="17247"/>
                  <a:pt x="12824" y="17231"/>
                  <a:pt x="12824" y="1721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13280" y="4768920"/>
            <a:ext cx="1446480" cy="1768320"/>
          </a:xfrm>
          <a:custGeom>
            <a:avLst/>
            <a:gdLst/>
            <a:ahLst/>
            <a:rect l="l" t="t" r="r" b="b"/>
            <a:pathLst>
              <a:path w="4019" h="4912">
                <a:moveTo>
                  <a:pt x="17537" y="15751"/>
                </a:moveTo>
                <a:cubicBezTo>
                  <a:pt x="17477" y="15706"/>
                  <a:pt x="17426" y="15763"/>
                  <a:pt x="17388" y="15825"/>
                </a:cubicBezTo>
                <a:cubicBezTo>
                  <a:pt x="17388" y="15833"/>
                  <a:pt x="17388" y="15842"/>
                  <a:pt x="17388" y="15850"/>
                </a:cubicBezTo>
                <a:cubicBezTo>
                  <a:pt x="17437" y="15866"/>
                  <a:pt x="17504" y="15876"/>
                  <a:pt x="17512" y="15801"/>
                </a:cubicBezTo>
                <a:cubicBezTo>
                  <a:pt x="17512" y="15776"/>
                  <a:pt x="17512" y="15768"/>
                  <a:pt x="17512" y="15751"/>
                </a:cubicBezTo>
              </a:path>
              <a:path w="4019" h="4912">
                <a:moveTo>
                  <a:pt x="18479" y="14932"/>
                </a:moveTo>
                <a:cubicBezTo>
                  <a:pt x="18239" y="14923"/>
                  <a:pt x="18154" y="14926"/>
                  <a:pt x="18033" y="15131"/>
                </a:cubicBezTo>
                <a:cubicBezTo>
                  <a:pt x="18190" y="15392"/>
                  <a:pt x="18434" y="15386"/>
                  <a:pt x="18628" y="15602"/>
                </a:cubicBezTo>
                <a:cubicBezTo>
                  <a:pt x="18652" y="15697"/>
                  <a:pt x="18663" y="15726"/>
                  <a:pt x="18604" y="15776"/>
                </a:cubicBezTo>
                <a:cubicBezTo>
                  <a:pt x="18381" y="15813"/>
                  <a:pt x="18145" y="15799"/>
                  <a:pt x="18306" y="15478"/>
                </a:cubicBezTo>
                <a:cubicBezTo>
                  <a:pt x="18369" y="15352"/>
                  <a:pt x="18630" y="15144"/>
                  <a:pt x="18604" y="15032"/>
                </a:cubicBezTo>
              </a:path>
              <a:path w="4019" h="4912">
                <a:moveTo>
                  <a:pt x="16966" y="16098"/>
                </a:moveTo>
                <a:cubicBezTo>
                  <a:pt x="16903" y="16098"/>
                  <a:pt x="16919" y="16060"/>
                  <a:pt x="16867" y="16049"/>
                </a:cubicBezTo>
                <a:cubicBezTo>
                  <a:pt x="16859" y="16049"/>
                  <a:pt x="16850" y="16049"/>
                  <a:pt x="16842" y="16049"/>
                </a:cubicBezTo>
              </a:path>
              <a:path w="4019" h="4912">
                <a:moveTo>
                  <a:pt x="16718" y="16073"/>
                </a:moveTo>
                <a:cubicBezTo>
                  <a:pt x="16736" y="16071"/>
                  <a:pt x="16815" y="16049"/>
                  <a:pt x="16818" y="16049"/>
                </a:cubicBezTo>
                <a:cubicBezTo>
                  <a:pt x="16849" y="16051"/>
                  <a:pt x="16884" y="16064"/>
                  <a:pt x="16917" y="16073"/>
                </a:cubicBezTo>
                <a:cubicBezTo>
                  <a:pt x="16957" y="16093"/>
                  <a:pt x="16963" y="16102"/>
                  <a:pt x="16991" y="16098"/>
                </a:cubicBezTo>
                <a:cubicBezTo>
                  <a:pt x="16998" y="15881"/>
                  <a:pt x="17028" y="15670"/>
                  <a:pt x="17041" y="15453"/>
                </a:cubicBezTo>
                <a:cubicBezTo>
                  <a:pt x="17049" y="15323"/>
                  <a:pt x="17037" y="15161"/>
                  <a:pt x="17016" y="15032"/>
                </a:cubicBezTo>
                <a:cubicBezTo>
                  <a:pt x="17002" y="14947"/>
                  <a:pt x="16989" y="14960"/>
                  <a:pt x="17016" y="14908"/>
                </a:cubicBezTo>
                <a:cubicBezTo>
                  <a:pt x="17056" y="14829"/>
                  <a:pt x="16947" y="14853"/>
                  <a:pt x="17090" y="14808"/>
                </a:cubicBezTo>
                <a:cubicBezTo>
                  <a:pt x="17469" y="14690"/>
                  <a:pt x="17917" y="14652"/>
                  <a:pt x="18306" y="14610"/>
                </a:cubicBezTo>
                <a:cubicBezTo>
                  <a:pt x="18893" y="14547"/>
                  <a:pt x="19477" y="14536"/>
                  <a:pt x="20067" y="14536"/>
                </a:cubicBezTo>
                <a:cubicBezTo>
                  <a:pt x="20163" y="14536"/>
                  <a:pt x="20197" y="14533"/>
                  <a:pt x="20117" y="14610"/>
                </a:cubicBezTo>
              </a:path>
              <a:path w="4019" h="4912">
                <a:moveTo>
                  <a:pt x="16470" y="15156"/>
                </a:moveTo>
                <a:cubicBezTo>
                  <a:pt x="16444" y="15204"/>
                  <a:pt x="16418" y="15261"/>
                  <a:pt x="16396" y="15304"/>
                </a:cubicBezTo>
                <a:cubicBezTo>
                  <a:pt x="16524" y="15229"/>
                  <a:pt x="16582" y="15156"/>
                  <a:pt x="16718" y="15156"/>
                </a:cubicBezTo>
                <a:cubicBezTo>
                  <a:pt x="16846" y="15391"/>
                  <a:pt x="16740" y="15566"/>
                  <a:pt x="16545" y="15751"/>
                </a:cubicBezTo>
                <a:cubicBezTo>
                  <a:pt x="16412" y="15877"/>
                  <a:pt x="16330" y="15911"/>
                  <a:pt x="16173" y="15900"/>
                </a:cubicBezTo>
                <a:cubicBezTo>
                  <a:pt x="16151" y="15768"/>
                  <a:pt x="16193" y="15659"/>
                  <a:pt x="16371" y="15677"/>
                </a:cubicBezTo>
                <a:cubicBezTo>
                  <a:pt x="16557" y="15696"/>
                  <a:pt x="16659" y="15795"/>
                  <a:pt x="16768" y="15925"/>
                </a:cubicBezTo>
                <a:cubicBezTo>
                  <a:pt x="16786" y="15947"/>
                  <a:pt x="16839" y="15992"/>
                  <a:pt x="16842" y="15999"/>
                </a:cubicBezTo>
                <a:cubicBezTo>
                  <a:pt x="16842" y="16024"/>
                  <a:pt x="16842" y="16032"/>
                  <a:pt x="16842" y="16049"/>
                </a:cubicBezTo>
              </a:path>
              <a:path w="4019" h="4912">
                <a:moveTo>
                  <a:pt x="18207" y="13568"/>
                </a:moveTo>
                <a:cubicBezTo>
                  <a:pt x="18187" y="13687"/>
                  <a:pt x="18109" y="13772"/>
                  <a:pt x="18083" y="13891"/>
                </a:cubicBezTo>
                <a:cubicBezTo>
                  <a:pt x="18083" y="13907"/>
                  <a:pt x="18083" y="13924"/>
                  <a:pt x="18083" y="13940"/>
                </a:cubicBezTo>
                <a:cubicBezTo>
                  <a:pt x="18247" y="13928"/>
                  <a:pt x="18380" y="13886"/>
                  <a:pt x="18529" y="13816"/>
                </a:cubicBezTo>
                <a:cubicBezTo>
                  <a:pt x="18546" y="13808"/>
                  <a:pt x="18562" y="13799"/>
                  <a:pt x="18579" y="13791"/>
                </a:cubicBezTo>
              </a:path>
              <a:path w="4019" h="4912">
                <a:moveTo>
                  <a:pt x="18479" y="13246"/>
                </a:moveTo>
                <a:cubicBezTo>
                  <a:pt x="18415" y="13575"/>
                  <a:pt x="18355" y="13903"/>
                  <a:pt x="18331" y="14238"/>
                </a:cubicBezTo>
                <a:cubicBezTo>
                  <a:pt x="18331" y="14271"/>
                  <a:pt x="18331" y="14304"/>
                  <a:pt x="18331" y="14337"/>
                </a:cubicBezTo>
              </a:path>
              <a:path w="4019" h="4912">
                <a:moveTo>
                  <a:pt x="18678" y="16073"/>
                </a:moveTo>
                <a:cubicBezTo>
                  <a:pt x="18678" y="15986"/>
                  <a:pt x="18637" y="16027"/>
                  <a:pt x="18554" y="16073"/>
                </a:cubicBezTo>
                <a:cubicBezTo>
                  <a:pt x="18386" y="16166"/>
                  <a:pt x="18285" y="16234"/>
                  <a:pt x="18256" y="16421"/>
                </a:cubicBezTo>
                <a:cubicBezTo>
                  <a:pt x="18404" y="16490"/>
                  <a:pt x="18592" y="16526"/>
                  <a:pt x="18653" y="16694"/>
                </a:cubicBezTo>
                <a:cubicBezTo>
                  <a:pt x="18719" y="16874"/>
                  <a:pt x="18482" y="16886"/>
                  <a:pt x="18380" y="16892"/>
                </a:cubicBezTo>
                <a:cubicBezTo>
                  <a:pt x="18417" y="16658"/>
                  <a:pt x="18525" y="16474"/>
                  <a:pt x="18653" y="16272"/>
                </a:cubicBezTo>
                <a:cubicBezTo>
                  <a:pt x="18743" y="16130"/>
                  <a:pt x="18633" y="16203"/>
                  <a:pt x="18554" y="16247"/>
                </a:cubicBezTo>
              </a:path>
              <a:path w="4019" h="4912">
                <a:moveTo>
                  <a:pt x="17438" y="16743"/>
                </a:moveTo>
                <a:cubicBezTo>
                  <a:pt x="17557" y="16743"/>
                  <a:pt x="17644" y="16685"/>
                  <a:pt x="17760" y="16669"/>
                </a:cubicBezTo>
                <a:cubicBezTo>
                  <a:pt x="17793" y="16669"/>
                  <a:pt x="17826" y="16669"/>
                  <a:pt x="17859" y="16669"/>
                </a:cubicBezTo>
              </a:path>
              <a:path w="4019" h="4912">
                <a:moveTo>
                  <a:pt x="17462" y="17562"/>
                </a:moveTo>
                <a:cubicBezTo>
                  <a:pt x="17780" y="17459"/>
                  <a:pt x="18106" y="17344"/>
                  <a:pt x="18430" y="17264"/>
                </a:cubicBezTo>
                <a:cubicBezTo>
                  <a:pt x="18630" y="17215"/>
                  <a:pt x="18846" y="17191"/>
                  <a:pt x="19050" y="17165"/>
                </a:cubicBezTo>
                <a:cubicBezTo>
                  <a:pt x="19058" y="17165"/>
                  <a:pt x="19067" y="17165"/>
                  <a:pt x="19075" y="17165"/>
                </a:cubicBezTo>
              </a:path>
              <a:path w="4019" h="4912">
                <a:moveTo>
                  <a:pt x="18777" y="17537"/>
                </a:moveTo>
                <a:cubicBezTo>
                  <a:pt x="18719" y="17448"/>
                  <a:pt x="18580" y="17612"/>
                  <a:pt x="18529" y="17661"/>
                </a:cubicBezTo>
                <a:cubicBezTo>
                  <a:pt x="18368" y="17814"/>
                  <a:pt x="18335" y="17922"/>
                  <a:pt x="18380" y="18132"/>
                </a:cubicBezTo>
                <a:cubicBezTo>
                  <a:pt x="18618" y="18133"/>
                  <a:pt x="18718" y="17926"/>
                  <a:pt x="18777" y="17686"/>
                </a:cubicBezTo>
                <a:cubicBezTo>
                  <a:pt x="18828" y="17477"/>
                  <a:pt x="18689" y="17536"/>
                  <a:pt x="18579" y="17587"/>
                </a:cubicBezTo>
              </a:path>
              <a:path w="4019" h="4912">
                <a:moveTo>
                  <a:pt x="17537" y="14362"/>
                </a:moveTo>
                <a:cubicBezTo>
                  <a:pt x="17573" y="14350"/>
                  <a:pt x="17573" y="14349"/>
                  <a:pt x="17537" y="14337"/>
                </a:cubicBezTo>
                <a:cubicBezTo>
                  <a:pt x="17522" y="14383"/>
                  <a:pt x="17459" y="14435"/>
                  <a:pt x="17512" y="14511"/>
                </a:cubicBezTo>
                <a:cubicBezTo>
                  <a:pt x="17555" y="14572"/>
                  <a:pt x="17587" y="14386"/>
                  <a:pt x="17587" y="14362"/>
                </a:cubicBezTo>
                <a:cubicBezTo>
                  <a:pt x="17587" y="14256"/>
                  <a:pt x="17468" y="14336"/>
                  <a:pt x="17438" y="14362"/>
                </a:cubicBezTo>
                <a:cubicBezTo>
                  <a:pt x="17397" y="14397"/>
                  <a:pt x="17413" y="14437"/>
                  <a:pt x="17413" y="14486"/>
                </a:cubicBezTo>
                <a:cubicBezTo>
                  <a:pt x="17522" y="14486"/>
                  <a:pt x="17529" y="14475"/>
                  <a:pt x="17537" y="14362"/>
                </a:cubicBezTo>
                <a:cubicBezTo>
                  <a:pt x="17537" y="14354"/>
                  <a:pt x="17537" y="14345"/>
                  <a:pt x="17537" y="14337"/>
                </a:cubicBezTo>
                <a:cubicBezTo>
                  <a:pt x="17445" y="14337"/>
                  <a:pt x="17455" y="14365"/>
                  <a:pt x="17438" y="14461"/>
                </a:cubicBezTo>
                <a:cubicBezTo>
                  <a:pt x="17425" y="14532"/>
                  <a:pt x="17527" y="14445"/>
                  <a:pt x="17537" y="14412"/>
                </a:cubicBezTo>
                <a:cubicBezTo>
                  <a:pt x="17556" y="14350"/>
                  <a:pt x="17474" y="14311"/>
                  <a:pt x="17438" y="14387"/>
                </a:cubicBezTo>
                <a:cubicBezTo>
                  <a:pt x="17418" y="14431"/>
                  <a:pt x="17442" y="14472"/>
                  <a:pt x="17462" y="1448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divide a decimal by a whol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4 ÷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3.5 ÷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56 ÷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6040" y="2303640"/>
            <a:ext cx="1571760" cy="474480"/>
          </a:xfrm>
          <a:custGeom>
            <a:avLst/>
            <a:gdLst/>
            <a:ahLst/>
            <a:rect l="l" t="t" r="r" b="b"/>
            <a:pathLst>
              <a:path w="4367" h="1315">
                <a:moveTo>
                  <a:pt x="13047" y="6722"/>
                </a:moveTo>
                <a:cubicBezTo>
                  <a:pt x="13047" y="6760"/>
                  <a:pt x="13032" y="6684"/>
                  <a:pt x="13097" y="6672"/>
                </a:cubicBezTo>
                <a:cubicBezTo>
                  <a:pt x="13282" y="6636"/>
                  <a:pt x="13283" y="6916"/>
                  <a:pt x="13221" y="7020"/>
                </a:cubicBezTo>
                <a:cubicBezTo>
                  <a:pt x="13079" y="7256"/>
                  <a:pt x="12852" y="7355"/>
                  <a:pt x="12601" y="7342"/>
                </a:cubicBezTo>
                <a:cubicBezTo>
                  <a:pt x="12667" y="7210"/>
                  <a:pt x="12772" y="7116"/>
                  <a:pt x="12948" y="7193"/>
                </a:cubicBezTo>
                <a:cubicBezTo>
                  <a:pt x="13058" y="7241"/>
                  <a:pt x="13097" y="7332"/>
                  <a:pt x="13097" y="7441"/>
                </a:cubicBezTo>
              </a:path>
              <a:path w="4367" h="1315">
                <a:moveTo>
                  <a:pt x="13345" y="7293"/>
                </a:moveTo>
                <a:cubicBezTo>
                  <a:pt x="13353" y="7293"/>
                  <a:pt x="13362" y="7293"/>
                  <a:pt x="13370" y="7293"/>
                </a:cubicBezTo>
              </a:path>
              <a:path w="4367" h="1315">
                <a:moveTo>
                  <a:pt x="13667" y="6747"/>
                </a:moveTo>
                <a:cubicBezTo>
                  <a:pt x="13641" y="6810"/>
                  <a:pt x="13631" y="6895"/>
                  <a:pt x="13618" y="6970"/>
                </a:cubicBezTo>
                <a:cubicBezTo>
                  <a:pt x="13735" y="7037"/>
                  <a:pt x="13837" y="7012"/>
                  <a:pt x="13965" y="6970"/>
                </a:cubicBezTo>
                <a:cubicBezTo>
                  <a:pt x="14006" y="6954"/>
                  <a:pt x="14048" y="6937"/>
                  <a:pt x="14089" y="6921"/>
                </a:cubicBezTo>
              </a:path>
              <a:path w="4367" h="1315">
                <a:moveTo>
                  <a:pt x="14015" y="6499"/>
                </a:moveTo>
                <a:cubicBezTo>
                  <a:pt x="13974" y="6734"/>
                  <a:pt x="13989" y="6959"/>
                  <a:pt x="13965" y="7193"/>
                </a:cubicBezTo>
                <a:cubicBezTo>
                  <a:pt x="13944" y="7276"/>
                  <a:pt x="13936" y="7291"/>
                  <a:pt x="13940" y="7342"/>
                </a:cubicBezTo>
              </a:path>
              <a:path w="4367" h="1315">
                <a:moveTo>
                  <a:pt x="12129" y="7714"/>
                </a:moveTo>
                <a:cubicBezTo>
                  <a:pt x="12109" y="7572"/>
                  <a:pt x="12117" y="7397"/>
                  <a:pt x="12105" y="7243"/>
                </a:cubicBezTo>
                <a:cubicBezTo>
                  <a:pt x="12094" y="7106"/>
                  <a:pt x="12010" y="6932"/>
                  <a:pt x="12030" y="6796"/>
                </a:cubicBezTo>
                <a:cubicBezTo>
                  <a:pt x="12038" y="6742"/>
                  <a:pt x="12053" y="6705"/>
                  <a:pt x="12105" y="6672"/>
                </a:cubicBezTo>
                <a:cubicBezTo>
                  <a:pt x="12233" y="6591"/>
                  <a:pt x="12411" y="6610"/>
                  <a:pt x="12551" y="6598"/>
                </a:cubicBezTo>
                <a:cubicBezTo>
                  <a:pt x="13081" y="6553"/>
                  <a:pt x="13610" y="6493"/>
                  <a:pt x="14139" y="6449"/>
                </a:cubicBezTo>
                <a:cubicBezTo>
                  <a:pt x="14531" y="6417"/>
                  <a:pt x="14913" y="6395"/>
                  <a:pt x="15304" y="6424"/>
                </a:cubicBezTo>
                <a:cubicBezTo>
                  <a:pt x="15329" y="6424"/>
                  <a:pt x="15337" y="6424"/>
                  <a:pt x="15354" y="6424"/>
                </a:cubicBezTo>
              </a:path>
              <a:path w="4367" h="1315">
                <a:moveTo>
                  <a:pt x="11261" y="6945"/>
                </a:moveTo>
                <a:cubicBezTo>
                  <a:pt x="11326" y="6883"/>
                  <a:pt x="11208" y="7042"/>
                  <a:pt x="11162" y="7119"/>
                </a:cubicBezTo>
                <a:cubicBezTo>
                  <a:pt x="11072" y="7271"/>
                  <a:pt x="10964" y="7402"/>
                  <a:pt x="10988" y="7590"/>
                </a:cubicBezTo>
                <a:cubicBezTo>
                  <a:pt x="11015" y="7809"/>
                  <a:pt x="11337" y="7630"/>
                  <a:pt x="11435" y="7590"/>
                </a:cubicBezTo>
                <a:cubicBezTo>
                  <a:pt x="11596" y="7525"/>
                  <a:pt x="11704" y="7439"/>
                  <a:pt x="11733" y="7268"/>
                </a:cubicBezTo>
                <a:cubicBezTo>
                  <a:pt x="11733" y="7260"/>
                  <a:pt x="11733" y="7251"/>
                  <a:pt x="11733" y="7243"/>
                </a:cubicBezTo>
                <a:cubicBezTo>
                  <a:pt x="11594" y="7231"/>
                  <a:pt x="11498" y="7295"/>
                  <a:pt x="11435" y="7441"/>
                </a:cubicBezTo>
                <a:cubicBezTo>
                  <a:pt x="11394" y="7536"/>
                  <a:pt x="11414" y="7585"/>
                  <a:pt x="11460" y="766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1800" y="2009880"/>
            <a:ext cx="669960" cy="1330200"/>
          </a:xfrm>
          <a:custGeom>
            <a:avLst/>
            <a:gdLst/>
            <a:ahLst/>
            <a:rect l="l" t="t" r="r" b="b"/>
            <a:pathLst>
              <a:path w="1861" h="3697">
                <a:moveTo>
                  <a:pt x="13543" y="5730"/>
                </a:moveTo>
                <a:cubicBezTo>
                  <a:pt x="13543" y="5814"/>
                  <a:pt x="13490" y="5897"/>
                  <a:pt x="13494" y="5978"/>
                </a:cubicBezTo>
                <a:cubicBezTo>
                  <a:pt x="13499" y="6083"/>
                  <a:pt x="13736" y="5982"/>
                  <a:pt x="13767" y="5978"/>
                </a:cubicBezTo>
                <a:cubicBezTo>
                  <a:pt x="13825" y="5978"/>
                  <a:pt x="13833" y="5978"/>
                  <a:pt x="13866" y="5978"/>
                </a:cubicBezTo>
              </a:path>
              <a:path w="1861" h="3697">
                <a:moveTo>
                  <a:pt x="13816" y="5581"/>
                </a:moveTo>
                <a:cubicBezTo>
                  <a:pt x="13754" y="5623"/>
                  <a:pt x="13768" y="5820"/>
                  <a:pt x="13767" y="5904"/>
                </a:cubicBezTo>
                <a:cubicBezTo>
                  <a:pt x="13764" y="6074"/>
                  <a:pt x="13776" y="6233"/>
                  <a:pt x="13791" y="6400"/>
                </a:cubicBezTo>
              </a:path>
              <a:path w="1861" h="3697">
                <a:moveTo>
                  <a:pt x="12774" y="7863"/>
                </a:moveTo>
                <a:cubicBezTo>
                  <a:pt x="12752" y="7855"/>
                  <a:pt x="12728" y="7808"/>
                  <a:pt x="12700" y="7863"/>
                </a:cubicBezTo>
                <a:cubicBezTo>
                  <a:pt x="12700" y="7888"/>
                  <a:pt x="12700" y="7896"/>
                  <a:pt x="12700" y="7863"/>
                </a:cubicBezTo>
                <a:cubicBezTo>
                  <a:pt x="12749" y="7765"/>
                  <a:pt x="12784" y="7732"/>
                  <a:pt x="12874" y="7665"/>
                </a:cubicBezTo>
                <a:cubicBezTo>
                  <a:pt x="13003" y="7807"/>
                  <a:pt x="12986" y="7972"/>
                  <a:pt x="12898" y="8161"/>
                </a:cubicBezTo>
                <a:cubicBezTo>
                  <a:pt x="12841" y="8283"/>
                  <a:pt x="12761" y="8309"/>
                  <a:pt x="12650" y="8334"/>
                </a:cubicBezTo>
                <a:cubicBezTo>
                  <a:pt x="12650" y="8214"/>
                  <a:pt x="12675" y="8161"/>
                  <a:pt x="12824" y="8161"/>
                </a:cubicBezTo>
                <a:cubicBezTo>
                  <a:pt x="12933" y="8161"/>
                  <a:pt x="13031" y="8208"/>
                  <a:pt x="13047" y="8310"/>
                </a:cubicBezTo>
                <a:cubicBezTo>
                  <a:pt x="13047" y="8318"/>
                  <a:pt x="13047" y="8326"/>
                  <a:pt x="13047" y="8334"/>
                </a:cubicBezTo>
              </a:path>
              <a:path w="1861" h="3697">
                <a:moveTo>
                  <a:pt x="13320" y="7739"/>
                </a:moveTo>
                <a:cubicBezTo>
                  <a:pt x="13320" y="7813"/>
                  <a:pt x="13316" y="7870"/>
                  <a:pt x="13345" y="7938"/>
                </a:cubicBezTo>
                <a:cubicBezTo>
                  <a:pt x="13376" y="8012"/>
                  <a:pt x="13477" y="8002"/>
                  <a:pt x="13543" y="7962"/>
                </a:cubicBezTo>
                <a:cubicBezTo>
                  <a:pt x="13593" y="7913"/>
                  <a:pt x="13610" y="7896"/>
                  <a:pt x="13643" y="7863"/>
                </a:cubicBezTo>
              </a:path>
              <a:path w="1861" h="3697">
                <a:moveTo>
                  <a:pt x="13543" y="7516"/>
                </a:moveTo>
                <a:cubicBezTo>
                  <a:pt x="13570" y="7622"/>
                  <a:pt x="13568" y="7742"/>
                  <a:pt x="13568" y="7863"/>
                </a:cubicBezTo>
                <a:cubicBezTo>
                  <a:pt x="13568" y="7965"/>
                  <a:pt x="13565" y="8042"/>
                  <a:pt x="13593" y="8136"/>
                </a:cubicBezTo>
              </a:path>
              <a:path w="1861" h="3697">
                <a:moveTo>
                  <a:pt x="12254" y="8409"/>
                </a:moveTo>
                <a:cubicBezTo>
                  <a:pt x="12299" y="8349"/>
                  <a:pt x="12392" y="8337"/>
                  <a:pt x="12477" y="8334"/>
                </a:cubicBezTo>
                <a:cubicBezTo>
                  <a:pt x="12535" y="8334"/>
                  <a:pt x="12543" y="8334"/>
                  <a:pt x="12576" y="8334"/>
                </a:cubicBezTo>
              </a:path>
              <a:path w="1861" h="3697">
                <a:moveTo>
                  <a:pt x="12303" y="8806"/>
                </a:moveTo>
                <a:cubicBezTo>
                  <a:pt x="12568" y="8778"/>
                  <a:pt x="12813" y="8674"/>
                  <a:pt x="13072" y="8607"/>
                </a:cubicBezTo>
                <a:cubicBezTo>
                  <a:pt x="13303" y="8547"/>
                  <a:pt x="13531" y="8506"/>
                  <a:pt x="13767" y="8483"/>
                </a:cubicBezTo>
                <a:cubicBezTo>
                  <a:pt x="13808" y="8483"/>
                  <a:pt x="13816" y="8483"/>
                  <a:pt x="13841" y="8483"/>
                </a:cubicBezTo>
              </a:path>
              <a:path w="1861" h="3697">
                <a:moveTo>
                  <a:pt x="13866" y="8731"/>
                </a:moveTo>
                <a:cubicBezTo>
                  <a:pt x="13798" y="8866"/>
                  <a:pt x="13712" y="9021"/>
                  <a:pt x="13717" y="9178"/>
                </a:cubicBezTo>
                <a:cubicBezTo>
                  <a:pt x="13725" y="9203"/>
                  <a:pt x="13734" y="9227"/>
                  <a:pt x="13742" y="9252"/>
                </a:cubicBezTo>
                <a:cubicBezTo>
                  <a:pt x="13875" y="9273"/>
                  <a:pt x="14063" y="9243"/>
                  <a:pt x="14114" y="9079"/>
                </a:cubicBezTo>
                <a:cubicBezTo>
                  <a:pt x="14158" y="8937"/>
                  <a:pt x="14074" y="8763"/>
                  <a:pt x="13915" y="8781"/>
                </a:cubicBezTo>
                <a:cubicBezTo>
                  <a:pt x="13844" y="8805"/>
                  <a:pt x="13821" y="8812"/>
                  <a:pt x="13791" y="8855"/>
                </a:cubicBezTo>
              </a:path>
              <a:path w="1861" h="3697">
                <a:moveTo>
                  <a:pt x="13469" y="6251"/>
                </a:moveTo>
                <a:cubicBezTo>
                  <a:pt x="13469" y="6243"/>
                  <a:pt x="13469" y="6234"/>
                  <a:pt x="13469" y="6226"/>
                </a:cubicBezTo>
                <a:cubicBezTo>
                  <a:pt x="13429" y="6239"/>
                  <a:pt x="13423" y="6273"/>
                  <a:pt x="13419" y="6325"/>
                </a:cubicBezTo>
                <a:cubicBezTo>
                  <a:pt x="13419" y="6350"/>
                  <a:pt x="13419" y="6358"/>
                  <a:pt x="13444" y="6350"/>
                </a:cubicBezTo>
                <a:cubicBezTo>
                  <a:pt x="13433" y="6318"/>
                  <a:pt x="13410" y="6310"/>
                  <a:pt x="13370" y="6300"/>
                </a:cubicBezTo>
                <a:cubicBezTo>
                  <a:pt x="13351" y="6351"/>
                  <a:pt x="13345" y="6370"/>
                  <a:pt x="13345" y="6424"/>
                </a:cubicBezTo>
                <a:cubicBezTo>
                  <a:pt x="13383" y="6405"/>
                  <a:pt x="13424" y="6368"/>
                  <a:pt x="13370" y="63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10160" y="2919240"/>
            <a:ext cx="1749600" cy="2554560"/>
          </a:xfrm>
          <a:custGeom>
            <a:avLst/>
            <a:gdLst/>
            <a:ahLst/>
            <a:rect l="l" t="t" r="r" b="b"/>
            <a:pathLst>
              <a:path w="4863" h="7095">
                <a:moveTo>
                  <a:pt x="17413" y="9426"/>
                </a:moveTo>
                <a:cubicBezTo>
                  <a:pt x="17406" y="9369"/>
                  <a:pt x="17378" y="9247"/>
                  <a:pt x="17338" y="9203"/>
                </a:cubicBezTo>
                <a:cubicBezTo>
                  <a:pt x="17192" y="9041"/>
                  <a:pt x="17004" y="9247"/>
                  <a:pt x="16942" y="9376"/>
                </a:cubicBezTo>
                <a:cubicBezTo>
                  <a:pt x="16899" y="9525"/>
                  <a:pt x="16876" y="9557"/>
                  <a:pt x="16917" y="9649"/>
                </a:cubicBezTo>
                <a:cubicBezTo>
                  <a:pt x="17117" y="9667"/>
                  <a:pt x="17200" y="9527"/>
                  <a:pt x="17289" y="9351"/>
                </a:cubicBezTo>
                <a:cubicBezTo>
                  <a:pt x="17308" y="9294"/>
                  <a:pt x="17317" y="9287"/>
                  <a:pt x="17314" y="9252"/>
                </a:cubicBezTo>
                <a:cubicBezTo>
                  <a:pt x="17335" y="9450"/>
                  <a:pt x="17324" y="9625"/>
                  <a:pt x="17314" y="9823"/>
                </a:cubicBezTo>
                <a:cubicBezTo>
                  <a:pt x="17314" y="9930"/>
                  <a:pt x="17314" y="9955"/>
                  <a:pt x="17314" y="10021"/>
                </a:cubicBezTo>
              </a:path>
              <a:path w="4863" h="7095">
                <a:moveTo>
                  <a:pt x="17537" y="9252"/>
                </a:moveTo>
                <a:cubicBezTo>
                  <a:pt x="17632" y="9126"/>
                  <a:pt x="17709" y="9135"/>
                  <a:pt x="17859" y="9153"/>
                </a:cubicBezTo>
                <a:cubicBezTo>
                  <a:pt x="17904" y="9317"/>
                  <a:pt x="17872" y="9377"/>
                  <a:pt x="17760" y="9500"/>
                </a:cubicBezTo>
                <a:cubicBezTo>
                  <a:pt x="17744" y="9517"/>
                  <a:pt x="17727" y="9533"/>
                  <a:pt x="17711" y="9550"/>
                </a:cubicBezTo>
                <a:cubicBezTo>
                  <a:pt x="17724" y="9453"/>
                  <a:pt x="17809" y="9418"/>
                  <a:pt x="17909" y="9475"/>
                </a:cubicBezTo>
                <a:cubicBezTo>
                  <a:pt x="18075" y="9570"/>
                  <a:pt x="17955" y="9841"/>
                  <a:pt x="17835" y="9922"/>
                </a:cubicBezTo>
                <a:cubicBezTo>
                  <a:pt x="17791" y="9952"/>
                  <a:pt x="17388" y="10074"/>
                  <a:pt x="17388" y="9922"/>
                </a:cubicBezTo>
                <a:cubicBezTo>
                  <a:pt x="17405" y="9905"/>
                  <a:pt x="17421" y="9889"/>
                  <a:pt x="17438" y="9872"/>
                </a:cubicBezTo>
              </a:path>
              <a:path w="4863" h="7095">
                <a:moveTo>
                  <a:pt x="18132" y="9872"/>
                </a:moveTo>
                <a:cubicBezTo>
                  <a:pt x="18132" y="9905"/>
                  <a:pt x="18140" y="9914"/>
                  <a:pt x="18182" y="9897"/>
                </a:cubicBezTo>
              </a:path>
              <a:path w="4863" h="7095">
                <a:moveTo>
                  <a:pt x="19075" y="9004"/>
                </a:moveTo>
                <a:cubicBezTo>
                  <a:pt x="19024" y="9008"/>
                  <a:pt x="18840" y="9002"/>
                  <a:pt x="18802" y="9029"/>
                </a:cubicBezTo>
                <a:cubicBezTo>
                  <a:pt x="18743" y="9071"/>
                  <a:pt x="18756" y="9309"/>
                  <a:pt x="18752" y="9376"/>
                </a:cubicBezTo>
                <a:cubicBezTo>
                  <a:pt x="18752" y="9393"/>
                  <a:pt x="18752" y="9409"/>
                  <a:pt x="18752" y="9426"/>
                </a:cubicBezTo>
                <a:cubicBezTo>
                  <a:pt x="18888" y="9358"/>
                  <a:pt x="19040" y="9291"/>
                  <a:pt x="19199" y="9327"/>
                </a:cubicBezTo>
                <a:cubicBezTo>
                  <a:pt x="19383" y="9369"/>
                  <a:pt x="19276" y="9618"/>
                  <a:pt x="19199" y="9699"/>
                </a:cubicBezTo>
                <a:cubicBezTo>
                  <a:pt x="19059" y="9848"/>
                  <a:pt x="18958" y="9813"/>
                  <a:pt x="18777" y="9798"/>
                </a:cubicBezTo>
              </a:path>
              <a:path w="4863" h="7095">
                <a:moveTo>
                  <a:pt x="16371" y="10393"/>
                </a:moveTo>
                <a:cubicBezTo>
                  <a:pt x="16371" y="10392"/>
                  <a:pt x="16355" y="10219"/>
                  <a:pt x="16346" y="10170"/>
                </a:cubicBezTo>
                <a:cubicBezTo>
                  <a:pt x="16301" y="9924"/>
                  <a:pt x="16139" y="9651"/>
                  <a:pt x="16148" y="9401"/>
                </a:cubicBezTo>
                <a:cubicBezTo>
                  <a:pt x="16151" y="9320"/>
                  <a:pt x="16180" y="9325"/>
                  <a:pt x="16247" y="9302"/>
                </a:cubicBezTo>
                <a:cubicBezTo>
                  <a:pt x="16451" y="9232"/>
                  <a:pt x="16731" y="9264"/>
                  <a:pt x="16942" y="9252"/>
                </a:cubicBezTo>
                <a:cubicBezTo>
                  <a:pt x="17444" y="9223"/>
                  <a:pt x="17954" y="9176"/>
                  <a:pt x="18455" y="9128"/>
                </a:cubicBezTo>
                <a:cubicBezTo>
                  <a:pt x="18934" y="9082"/>
                  <a:pt x="19411" y="9060"/>
                  <a:pt x="19893" y="9054"/>
                </a:cubicBezTo>
                <a:cubicBezTo>
                  <a:pt x="19992" y="9053"/>
                  <a:pt x="20074" y="9061"/>
                  <a:pt x="20166" y="9079"/>
                </a:cubicBezTo>
                <a:cubicBezTo>
                  <a:pt x="20158" y="9079"/>
                  <a:pt x="20149" y="9079"/>
                  <a:pt x="20141" y="9079"/>
                </a:cubicBezTo>
              </a:path>
              <a:path w="4863" h="7095">
                <a:moveTo>
                  <a:pt x="15677" y="9649"/>
                </a:moveTo>
                <a:cubicBezTo>
                  <a:pt x="15656" y="9587"/>
                  <a:pt x="15558" y="9643"/>
                  <a:pt x="15503" y="9649"/>
                </a:cubicBezTo>
                <a:cubicBezTo>
                  <a:pt x="15427" y="9649"/>
                  <a:pt x="15401" y="9650"/>
                  <a:pt x="15354" y="9674"/>
                </a:cubicBezTo>
                <a:cubicBezTo>
                  <a:pt x="15354" y="9792"/>
                  <a:pt x="15334" y="9903"/>
                  <a:pt x="15329" y="10021"/>
                </a:cubicBezTo>
                <a:cubicBezTo>
                  <a:pt x="15329" y="10029"/>
                  <a:pt x="15329" y="10038"/>
                  <a:pt x="15329" y="10046"/>
                </a:cubicBezTo>
                <a:cubicBezTo>
                  <a:pt x="15342" y="9983"/>
                  <a:pt x="15351" y="9916"/>
                  <a:pt x="15429" y="9897"/>
                </a:cubicBezTo>
                <a:cubicBezTo>
                  <a:pt x="15538" y="9871"/>
                  <a:pt x="15735" y="9939"/>
                  <a:pt x="15751" y="10071"/>
                </a:cubicBezTo>
                <a:cubicBezTo>
                  <a:pt x="15772" y="10242"/>
                  <a:pt x="15578" y="10303"/>
                  <a:pt x="15453" y="10319"/>
                </a:cubicBezTo>
                <a:cubicBezTo>
                  <a:pt x="15368" y="10319"/>
                  <a:pt x="15348" y="10325"/>
                  <a:pt x="15304" y="10294"/>
                </a:cubicBezTo>
                <a:cubicBezTo>
                  <a:pt x="15383" y="10294"/>
                  <a:pt x="15451" y="10328"/>
                  <a:pt x="15528" y="10344"/>
                </a:cubicBezTo>
                <a:cubicBezTo>
                  <a:pt x="15536" y="10344"/>
                  <a:pt x="15545" y="10344"/>
                  <a:pt x="15553" y="10344"/>
                </a:cubicBezTo>
              </a:path>
              <a:path w="4863" h="7095">
                <a:moveTo>
                  <a:pt x="16892" y="8210"/>
                </a:moveTo>
                <a:cubicBezTo>
                  <a:pt x="16919" y="8212"/>
                  <a:pt x="16960" y="8478"/>
                  <a:pt x="16966" y="8558"/>
                </a:cubicBezTo>
                <a:cubicBezTo>
                  <a:pt x="16973" y="8654"/>
                  <a:pt x="16975" y="8677"/>
                  <a:pt x="16991" y="8756"/>
                </a:cubicBezTo>
              </a:path>
              <a:path w="4863" h="7095">
                <a:moveTo>
                  <a:pt x="17239" y="10294"/>
                </a:moveTo>
                <a:cubicBezTo>
                  <a:pt x="17239" y="10269"/>
                  <a:pt x="17239" y="10261"/>
                  <a:pt x="17264" y="10269"/>
                </a:cubicBezTo>
                <a:cubicBezTo>
                  <a:pt x="17168" y="10269"/>
                  <a:pt x="17084" y="10257"/>
                  <a:pt x="16991" y="10244"/>
                </a:cubicBezTo>
                <a:cubicBezTo>
                  <a:pt x="16975" y="10244"/>
                  <a:pt x="16958" y="10244"/>
                  <a:pt x="16942" y="10244"/>
                </a:cubicBezTo>
                <a:cubicBezTo>
                  <a:pt x="16942" y="10300"/>
                  <a:pt x="16958" y="10341"/>
                  <a:pt x="16966" y="10393"/>
                </a:cubicBezTo>
                <a:cubicBezTo>
                  <a:pt x="16985" y="10510"/>
                  <a:pt x="16991" y="10385"/>
                  <a:pt x="16991" y="10443"/>
                </a:cubicBezTo>
                <a:cubicBezTo>
                  <a:pt x="16991" y="10495"/>
                  <a:pt x="17016" y="10539"/>
                  <a:pt x="17016" y="10592"/>
                </a:cubicBezTo>
                <a:cubicBezTo>
                  <a:pt x="17096" y="10560"/>
                  <a:pt x="17134" y="10478"/>
                  <a:pt x="17239" y="10492"/>
                </a:cubicBezTo>
                <a:cubicBezTo>
                  <a:pt x="17256" y="10500"/>
                  <a:pt x="17272" y="10509"/>
                  <a:pt x="17289" y="10517"/>
                </a:cubicBezTo>
                <a:cubicBezTo>
                  <a:pt x="17314" y="10629"/>
                  <a:pt x="17265" y="10738"/>
                  <a:pt x="17140" y="10790"/>
                </a:cubicBezTo>
                <a:cubicBezTo>
                  <a:pt x="17074" y="10790"/>
                  <a:pt x="17057" y="10790"/>
                  <a:pt x="17016" y="10790"/>
                </a:cubicBezTo>
              </a:path>
              <a:path w="4863" h="7095">
                <a:moveTo>
                  <a:pt x="16644" y="11038"/>
                </a:moveTo>
                <a:cubicBezTo>
                  <a:pt x="16918" y="11038"/>
                  <a:pt x="17188" y="11018"/>
                  <a:pt x="17462" y="11013"/>
                </a:cubicBezTo>
                <a:cubicBezTo>
                  <a:pt x="17581" y="11011"/>
                  <a:pt x="17738" y="10969"/>
                  <a:pt x="17587" y="11088"/>
                </a:cubicBezTo>
              </a:path>
              <a:path w="4863" h="7095">
                <a:moveTo>
                  <a:pt x="17140" y="11286"/>
                </a:moveTo>
                <a:cubicBezTo>
                  <a:pt x="17106" y="11376"/>
                  <a:pt x="17098" y="11486"/>
                  <a:pt x="17115" y="11584"/>
                </a:cubicBezTo>
                <a:cubicBezTo>
                  <a:pt x="17141" y="11732"/>
                  <a:pt x="17301" y="11685"/>
                  <a:pt x="17388" y="11609"/>
                </a:cubicBezTo>
                <a:cubicBezTo>
                  <a:pt x="17413" y="11576"/>
                  <a:pt x="17437" y="11542"/>
                  <a:pt x="17462" y="11509"/>
                </a:cubicBezTo>
              </a:path>
              <a:path w="4863" h="7095">
                <a:moveTo>
                  <a:pt x="17338" y="11336"/>
                </a:moveTo>
                <a:cubicBezTo>
                  <a:pt x="17313" y="11540"/>
                  <a:pt x="17318" y="11704"/>
                  <a:pt x="17363" y="11906"/>
                </a:cubicBezTo>
                <a:cubicBezTo>
                  <a:pt x="17382" y="11980"/>
                  <a:pt x="17390" y="11987"/>
                  <a:pt x="17388" y="12030"/>
                </a:cubicBezTo>
              </a:path>
              <a:path w="4863" h="7095">
                <a:moveTo>
                  <a:pt x="17686" y="10319"/>
                </a:moveTo>
                <a:cubicBezTo>
                  <a:pt x="17686" y="10311"/>
                  <a:pt x="17686" y="10302"/>
                  <a:pt x="17686" y="10294"/>
                </a:cubicBezTo>
                <a:cubicBezTo>
                  <a:pt x="17620" y="10250"/>
                  <a:pt x="17710" y="10594"/>
                  <a:pt x="17711" y="10616"/>
                </a:cubicBezTo>
                <a:cubicBezTo>
                  <a:pt x="17718" y="10732"/>
                  <a:pt x="17742" y="11013"/>
                  <a:pt x="17686" y="11088"/>
                </a:cubicBezTo>
              </a:path>
              <a:path w="4863" h="7095">
                <a:moveTo>
                  <a:pt x="17760" y="11410"/>
                </a:moveTo>
                <a:cubicBezTo>
                  <a:pt x="17779" y="11335"/>
                  <a:pt x="17830" y="11284"/>
                  <a:pt x="17909" y="11261"/>
                </a:cubicBezTo>
                <a:cubicBezTo>
                  <a:pt x="17926" y="11261"/>
                  <a:pt x="17942" y="11261"/>
                  <a:pt x="17959" y="11261"/>
                </a:cubicBezTo>
                <a:cubicBezTo>
                  <a:pt x="18008" y="11381"/>
                  <a:pt x="17990" y="11497"/>
                  <a:pt x="17884" y="11609"/>
                </a:cubicBezTo>
                <a:cubicBezTo>
                  <a:pt x="17868" y="11617"/>
                  <a:pt x="17851" y="11625"/>
                  <a:pt x="17835" y="11633"/>
                </a:cubicBezTo>
                <a:cubicBezTo>
                  <a:pt x="17933" y="11597"/>
                  <a:pt x="18142" y="11521"/>
                  <a:pt x="18083" y="11733"/>
                </a:cubicBezTo>
                <a:cubicBezTo>
                  <a:pt x="18059" y="11819"/>
                  <a:pt x="17882" y="11972"/>
                  <a:pt x="17785" y="11906"/>
                </a:cubicBezTo>
                <a:cubicBezTo>
                  <a:pt x="17785" y="11890"/>
                  <a:pt x="17785" y="11873"/>
                  <a:pt x="17785" y="11857"/>
                </a:cubicBezTo>
              </a:path>
              <a:path w="4863" h="7095">
                <a:moveTo>
                  <a:pt x="17587" y="8186"/>
                </a:moveTo>
                <a:cubicBezTo>
                  <a:pt x="17658" y="8149"/>
                  <a:pt x="17632" y="8109"/>
                  <a:pt x="17537" y="8136"/>
                </a:cubicBezTo>
                <a:cubicBezTo>
                  <a:pt x="17406" y="8174"/>
                  <a:pt x="17317" y="8229"/>
                  <a:pt x="17214" y="8310"/>
                </a:cubicBezTo>
                <a:cubicBezTo>
                  <a:pt x="17272" y="8482"/>
                  <a:pt x="17425" y="8450"/>
                  <a:pt x="17562" y="8558"/>
                </a:cubicBezTo>
                <a:cubicBezTo>
                  <a:pt x="17711" y="8676"/>
                  <a:pt x="17530" y="8767"/>
                  <a:pt x="17438" y="8806"/>
                </a:cubicBezTo>
                <a:cubicBezTo>
                  <a:pt x="17376" y="8607"/>
                  <a:pt x="17425" y="8448"/>
                  <a:pt x="17537" y="8260"/>
                </a:cubicBezTo>
                <a:cubicBezTo>
                  <a:pt x="17560" y="8237"/>
                  <a:pt x="17568" y="8226"/>
                  <a:pt x="17562" y="8260"/>
                </a:cubicBezTo>
              </a:path>
              <a:path w="4863" h="7095">
                <a:moveTo>
                  <a:pt x="17289" y="12204"/>
                </a:moveTo>
                <a:cubicBezTo>
                  <a:pt x="17289" y="12268"/>
                  <a:pt x="17247" y="12485"/>
                  <a:pt x="17338" y="12502"/>
                </a:cubicBezTo>
                <a:cubicBezTo>
                  <a:pt x="17431" y="12520"/>
                  <a:pt x="17567" y="12397"/>
                  <a:pt x="17636" y="12353"/>
                </a:cubicBezTo>
              </a:path>
              <a:path w="4863" h="7095">
                <a:moveTo>
                  <a:pt x="17636" y="12154"/>
                </a:moveTo>
                <a:cubicBezTo>
                  <a:pt x="17624" y="12223"/>
                  <a:pt x="17517" y="12625"/>
                  <a:pt x="17587" y="12675"/>
                </a:cubicBezTo>
                <a:cubicBezTo>
                  <a:pt x="17603" y="12659"/>
                  <a:pt x="17620" y="12642"/>
                  <a:pt x="17636" y="12626"/>
                </a:cubicBezTo>
              </a:path>
              <a:path w="4863" h="7095">
                <a:moveTo>
                  <a:pt x="17934" y="12179"/>
                </a:moveTo>
                <a:cubicBezTo>
                  <a:pt x="17893" y="12375"/>
                  <a:pt x="17877" y="12462"/>
                  <a:pt x="17934" y="12650"/>
                </a:cubicBezTo>
                <a:cubicBezTo>
                  <a:pt x="18057" y="12628"/>
                  <a:pt x="18329" y="12549"/>
                  <a:pt x="18207" y="12353"/>
                </a:cubicBezTo>
                <a:cubicBezTo>
                  <a:pt x="18125" y="12222"/>
                  <a:pt x="17976" y="12267"/>
                  <a:pt x="17859" y="12278"/>
                </a:cubicBezTo>
              </a:path>
              <a:path w="4863" h="7095">
                <a:moveTo>
                  <a:pt x="16942" y="12874"/>
                </a:moveTo>
                <a:cubicBezTo>
                  <a:pt x="17193" y="12944"/>
                  <a:pt x="17402" y="12923"/>
                  <a:pt x="17661" y="12874"/>
                </a:cubicBezTo>
                <a:cubicBezTo>
                  <a:pt x="17877" y="12833"/>
                  <a:pt x="18250" y="12667"/>
                  <a:pt x="18479" y="12725"/>
                </a:cubicBezTo>
                <a:cubicBezTo>
                  <a:pt x="18479" y="12733"/>
                  <a:pt x="18479" y="12742"/>
                  <a:pt x="18479" y="12750"/>
                </a:cubicBezTo>
              </a:path>
              <a:path w="4863" h="7095">
                <a:moveTo>
                  <a:pt x="16694" y="12576"/>
                </a:moveTo>
                <a:cubicBezTo>
                  <a:pt x="16785" y="12576"/>
                  <a:pt x="16809" y="12576"/>
                  <a:pt x="16867" y="12576"/>
                </a:cubicBezTo>
              </a:path>
              <a:path w="4863" h="7095">
                <a:moveTo>
                  <a:pt x="17934" y="13097"/>
                </a:moveTo>
                <a:cubicBezTo>
                  <a:pt x="17977" y="13040"/>
                  <a:pt x="18146" y="12996"/>
                  <a:pt x="18231" y="12998"/>
                </a:cubicBezTo>
                <a:cubicBezTo>
                  <a:pt x="18298" y="13020"/>
                  <a:pt x="18316" y="13024"/>
                  <a:pt x="18355" y="13047"/>
                </a:cubicBezTo>
                <a:cubicBezTo>
                  <a:pt x="18297" y="13150"/>
                  <a:pt x="18205" y="13249"/>
                  <a:pt x="18157" y="13345"/>
                </a:cubicBezTo>
                <a:cubicBezTo>
                  <a:pt x="18227" y="13257"/>
                  <a:pt x="18320" y="13251"/>
                  <a:pt x="18430" y="13271"/>
                </a:cubicBezTo>
                <a:cubicBezTo>
                  <a:pt x="18350" y="13484"/>
                  <a:pt x="18276" y="13511"/>
                  <a:pt x="18058" y="13568"/>
                </a:cubicBezTo>
              </a:path>
              <a:path w="4863" h="7095">
                <a:moveTo>
                  <a:pt x="18976" y="10269"/>
                </a:moveTo>
                <a:cubicBezTo>
                  <a:pt x="18962" y="10294"/>
                  <a:pt x="18930" y="10329"/>
                  <a:pt x="18926" y="10393"/>
                </a:cubicBezTo>
                <a:cubicBezTo>
                  <a:pt x="18904" y="10771"/>
                  <a:pt x="18988" y="11156"/>
                  <a:pt x="19000" y="11534"/>
                </a:cubicBezTo>
                <a:cubicBezTo>
                  <a:pt x="19009" y="11812"/>
                  <a:pt x="18975" y="12154"/>
                  <a:pt x="19050" y="12427"/>
                </a:cubicBezTo>
                <a:cubicBezTo>
                  <a:pt x="19058" y="12435"/>
                  <a:pt x="19067" y="12444"/>
                  <a:pt x="19075" y="12452"/>
                </a:cubicBezTo>
              </a:path>
              <a:path w="4863" h="7095">
                <a:moveTo>
                  <a:pt x="19298" y="12774"/>
                </a:moveTo>
                <a:cubicBezTo>
                  <a:pt x="19240" y="12853"/>
                  <a:pt x="19191" y="12942"/>
                  <a:pt x="19075" y="12923"/>
                </a:cubicBezTo>
                <a:cubicBezTo>
                  <a:pt x="19014" y="12913"/>
                  <a:pt x="18999" y="12886"/>
                  <a:pt x="18951" y="12874"/>
                </a:cubicBezTo>
                <a:cubicBezTo>
                  <a:pt x="18927" y="12905"/>
                  <a:pt x="18905" y="12959"/>
                  <a:pt x="18901" y="12998"/>
                </a:cubicBezTo>
                <a:cubicBezTo>
                  <a:pt x="18896" y="13041"/>
                  <a:pt x="18940" y="13084"/>
                  <a:pt x="18976" y="13097"/>
                </a:cubicBezTo>
                <a:cubicBezTo>
                  <a:pt x="19087" y="13138"/>
                  <a:pt x="19158" y="13011"/>
                  <a:pt x="19273" y="13047"/>
                </a:cubicBezTo>
                <a:cubicBezTo>
                  <a:pt x="19438" y="13098"/>
                  <a:pt x="19293" y="13338"/>
                  <a:pt x="19224" y="13395"/>
                </a:cubicBezTo>
                <a:cubicBezTo>
                  <a:pt x="19103" y="13496"/>
                  <a:pt x="18971" y="13474"/>
                  <a:pt x="18852" y="13395"/>
                </a:cubicBezTo>
                <a:cubicBezTo>
                  <a:pt x="18844" y="13387"/>
                  <a:pt x="18835" y="13378"/>
                  <a:pt x="18827" y="13370"/>
                </a:cubicBezTo>
              </a:path>
              <a:path w="4863" h="7095">
                <a:moveTo>
                  <a:pt x="18231" y="8186"/>
                </a:moveTo>
                <a:cubicBezTo>
                  <a:pt x="18252" y="8124"/>
                  <a:pt x="18390" y="8172"/>
                  <a:pt x="18455" y="8161"/>
                </a:cubicBezTo>
                <a:cubicBezTo>
                  <a:pt x="18526" y="8150"/>
                  <a:pt x="18592" y="8126"/>
                  <a:pt x="18653" y="8111"/>
                </a:cubicBezTo>
                <a:cubicBezTo>
                  <a:pt x="18603" y="8313"/>
                  <a:pt x="18604" y="8477"/>
                  <a:pt x="18628" y="8682"/>
                </a:cubicBezTo>
              </a:path>
              <a:path w="4863" h="7095">
                <a:moveTo>
                  <a:pt x="18256" y="13891"/>
                </a:moveTo>
                <a:cubicBezTo>
                  <a:pt x="18330" y="13872"/>
                  <a:pt x="18366" y="13822"/>
                  <a:pt x="18455" y="13816"/>
                </a:cubicBezTo>
                <a:cubicBezTo>
                  <a:pt x="18580" y="13808"/>
                  <a:pt x="18634" y="13869"/>
                  <a:pt x="18529" y="13965"/>
                </a:cubicBezTo>
                <a:cubicBezTo>
                  <a:pt x="18504" y="13982"/>
                  <a:pt x="18480" y="13998"/>
                  <a:pt x="18455" y="14015"/>
                </a:cubicBezTo>
                <a:cubicBezTo>
                  <a:pt x="18455" y="14032"/>
                  <a:pt x="18488" y="13975"/>
                  <a:pt x="18579" y="13965"/>
                </a:cubicBezTo>
                <a:cubicBezTo>
                  <a:pt x="18685" y="13965"/>
                  <a:pt x="18714" y="13952"/>
                  <a:pt x="18752" y="14015"/>
                </a:cubicBezTo>
                <a:cubicBezTo>
                  <a:pt x="18717" y="14168"/>
                  <a:pt x="18648" y="14239"/>
                  <a:pt x="18479" y="14263"/>
                </a:cubicBezTo>
                <a:cubicBezTo>
                  <a:pt x="18388" y="14263"/>
                  <a:pt x="18355" y="14271"/>
                  <a:pt x="18380" y="14188"/>
                </a:cubicBezTo>
              </a:path>
              <a:path w="4863" h="7095">
                <a:moveTo>
                  <a:pt x="19075" y="13767"/>
                </a:moveTo>
                <a:cubicBezTo>
                  <a:pt x="19067" y="13796"/>
                  <a:pt x="19057" y="13812"/>
                  <a:pt x="19050" y="13841"/>
                </a:cubicBezTo>
                <a:cubicBezTo>
                  <a:pt x="19125" y="13864"/>
                  <a:pt x="19315" y="13882"/>
                  <a:pt x="19323" y="13990"/>
                </a:cubicBezTo>
                <a:cubicBezTo>
                  <a:pt x="19329" y="14077"/>
                  <a:pt x="19138" y="14101"/>
                  <a:pt x="19100" y="14114"/>
                </a:cubicBezTo>
              </a:path>
              <a:path w="4863" h="7095">
                <a:moveTo>
                  <a:pt x="19124" y="13717"/>
                </a:moveTo>
                <a:cubicBezTo>
                  <a:pt x="19199" y="13694"/>
                  <a:pt x="19236" y="13666"/>
                  <a:pt x="19248" y="13692"/>
                </a:cubicBezTo>
              </a:path>
              <a:path w="4863" h="7095">
                <a:moveTo>
                  <a:pt x="18008" y="14163"/>
                </a:moveTo>
                <a:cubicBezTo>
                  <a:pt x="18107" y="14139"/>
                  <a:pt x="18141" y="14131"/>
                  <a:pt x="18207" y="14163"/>
                </a:cubicBezTo>
              </a:path>
              <a:path w="4863" h="7095">
                <a:moveTo>
                  <a:pt x="18306" y="14635"/>
                </a:moveTo>
                <a:cubicBezTo>
                  <a:pt x="18374" y="14612"/>
                  <a:pt x="18307" y="14627"/>
                  <a:pt x="18405" y="14635"/>
                </a:cubicBezTo>
                <a:cubicBezTo>
                  <a:pt x="18700" y="14659"/>
                  <a:pt x="18986" y="14561"/>
                  <a:pt x="19273" y="14511"/>
                </a:cubicBezTo>
                <a:cubicBezTo>
                  <a:pt x="19387" y="14491"/>
                  <a:pt x="19483" y="14486"/>
                  <a:pt x="19596" y="14486"/>
                </a:cubicBezTo>
              </a:path>
              <a:path w="4863" h="7095">
                <a:moveTo>
                  <a:pt x="19372" y="14833"/>
                </a:moveTo>
                <a:cubicBezTo>
                  <a:pt x="19244" y="14866"/>
                  <a:pt x="19189" y="15020"/>
                  <a:pt x="19224" y="15156"/>
                </a:cubicBezTo>
                <a:cubicBezTo>
                  <a:pt x="19240" y="15172"/>
                  <a:pt x="19257" y="15189"/>
                  <a:pt x="19273" y="15205"/>
                </a:cubicBezTo>
                <a:cubicBezTo>
                  <a:pt x="19427" y="15170"/>
                  <a:pt x="19565" y="15048"/>
                  <a:pt x="19546" y="14858"/>
                </a:cubicBezTo>
                <a:cubicBezTo>
                  <a:pt x="19493" y="14752"/>
                  <a:pt x="19469" y="14722"/>
                  <a:pt x="19372" y="14808"/>
                </a:cubicBezTo>
              </a:path>
              <a:path w="4863" h="7095">
                <a:moveTo>
                  <a:pt x="18008" y="8731"/>
                </a:moveTo>
                <a:cubicBezTo>
                  <a:pt x="18008" y="8689"/>
                  <a:pt x="18018" y="8693"/>
                  <a:pt x="17983" y="8682"/>
                </a:cubicBezTo>
                <a:cubicBezTo>
                  <a:pt x="17984" y="8695"/>
                  <a:pt x="18018" y="8877"/>
                  <a:pt x="18083" y="8756"/>
                </a:cubicBezTo>
                <a:cubicBezTo>
                  <a:pt x="18111" y="8704"/>
                  <a:pt x="18022" y="8622"/>
                  <a:pt x="18008" y="8731"/>
                </a:cubicBezTo>
                <a:cubicBezTo>
                  <a:pt x="17994" y="8843"/>
                  <a:pt x="18056" y="8794"/>
                  <a:pt x="18083" y="8731"/>
                </a:cubicBezTo>
                <a:cubicBezTo>
                  <a:pt x="18008" y="8712"/>
                  <a:pt x="18061" y="8705"/>
                  <a:pt x="18033" y="8756"/>
                </a:cubicBezTo>
                <a:cubicBezTo>
                  <a:pt x="18025" y="8764"/>
                  <a:pt x="18016" y="8773"/>
                  <a:pt x="18008" y="878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84320" y="4562640"/>
            <a:ext cx="1633680" cy="2001600"/>
          </a:xfrm>
          <a:custGeom>
            <a:avLst/>
            <a:gdLst/>
            <a:ahLst/>
            <a:rect l="l" t="t" r="r" b="b"/>
            <a:pathLst>
              <a:path w="4540" h="5557">
                <a:moveTo>
                  <a:pt x="9699" y="14188"/>
                </a:moveTo>
                <a:cubicBezTo>
                  <a:pt x="9699" y="14390"/>
                  <a:pt x="9693" y="14583"/>
                  <a:pt x="9674" y="14784"/>
                </a:cubicBezTo>
                <a:cubicBezTo>
                  <a:pt x="9660" y="14937"/>
                  <a:pt x="9624" y="15060"/>
                  <a:pt x="9599" y="15205"/>
                </a:cubicBezTo>
              </a:path>
              <a:path w="4540" h="5557">
                <a:moveTo>
                  <a:pt x="10096" y="14883"/>
                </a:moveTo>
                <a:cubicBezTo>
                  <a:pt x="10096" y="14918"/>
                  <a:pt x="10105" y="14922"/>
                  <a:pt x="10145" y="14883"/>
                </a:cubicBezTo>
              </a:path>
              <a:path w="4540" h="5557">
                <a:moveTo>
                  <a:pt x="10988" y="14064"/>
                </a:moveTo>
                <a:cubicBezTo>
                  <a:pt x="10858" y="14130"/>
                  <a:pt x="10762" y="14158"/>
                  <a:pt x="10616" y="14163"/>
                </a:cubicBezTo>
                <a:cubicBezTo>
                  <a:pt x="10503" y="14167"/>
                  <a:pt x="10552" y="14176"/>
                  <a:pt x="10492" y="14312"/>
                </a:cubicBezTo>
                <a:cubicBezTo>
                  <a:pt x="10444" y="14421"/>
                  <a:pt x="10443" y="14393"/>
                  <a:pt x="10443" y="14486"/>
                </a:cubicBezTo>
                <a:cubicBezTo>
                  <a:pt x="10568" y="14458"/>
                  <a:pt x="10936" y="14299"/>
                  <a:pt x="11013" y="14486"/>
                </a:cubicBezTo>
                <a:cubicBezTo>
                  <a:pt x="11091" y="14676"/>
                  <a:pt x="10752" y="14869"/>
                  <a:pt x="10616" y="14883"/>
                </a:cubicBezTo>
                <a:cubicBezTo>
                  <a:pt x="10504" y="14860"/>
                  <a:pt x="10470" y="14863"/>
                  <a:pt x="10443" y="14784"/>
                </a:cubicBezTo>
              </a:path>
              <a:path w="4540" h="5557">
                <a:moveTo>
                  <a:pt x="11336" y="14064"/>
                </a:moveTo>
                <a:cubicBezTo>
                  <a:pt x="11274" y="14147"/>
                  <a:pt x="11224" y="14333"/>
                  <a:pt x="11212" y="14436"/>
                </a:cubicBezTo>
                <a:cubicBezTo>
                  <a:pt x="11192" y="14603"/>
                  <a:pt x="11210" y="14900"/>
                  <a:pt x="11460" y="14833"/>
                </a:cubicBezTo>
                <a:cubicBezTo>
                  <a:pt x="11686" y="14772"/>
                  <a:pt x="11726" y="14591"/>
                  <a:pt x="11683" y="14412"/>
                </a:cubicBezTo>
                <a:cubicBezTo>
                  <a:pt x="11511" y="14488"/>
                  <a:pt x="11410" y="14611"/>
                  <a:pt x="11410" y="14833"/>
                </a:cubicBezTo>
                <a:cubicBezTo>
                  <a:pt x="11418" y="14850"/>
                  <a:pt x="11427" y="14866"/>
                  <a:pt x="11435" y="14883"/>
                </a:cubicBezTo>
              </a:path>
              <a:path w="4540" h="5557">
                <a:moveTo>
                  <a:pt x="9153" y="15255"/>
                </a:moveTo>
                <a:cubicBezTo>
                  <a:pt x="9187" y="15054"/>
                  <a:pt x="9201" y="14866"/>
                  <a:pt x="9203" y="14660"/>
                </a:cubicBezTo>
                <a:cubicBezTo>
                  <a:pt x="9206" y="14386"/>
                  <a:pt x="9115" y="14184"/>
                  <a:pt x="9079" y="13940"/>
                </a:cubicBezTo>
                <a:cubicBezTo>
                  <a:pt x="9087" y="13940"/>
                  <a:pt x="9095" y="13940"/>
                  <a:pt x="9103" y="13940"/>
                </a:cubicBezTo>
                <a:cubicBezTo>
                  <a:pt x="9264" y="13925"/>
                  <a:pt x="9472" y="13925"/>
                  <a:pt x="9649" y="13915"/>
                </a:cubicBezTo>
                <a:cubicBezTo>
                  <a:pt x="10279" y="13879"/>
                  <a:pt x="10905" y="13790"/>
                  <a:pt x="11534" y="13742"/>
                </a:cubicBezTo>
                <a:cubicBezTo>
                  <a:pt x="11849" y="13718"/>
                  <a:pt x="12207" y="13665"/>
                  <a:pt x="12526" y="13692"/>
                </a:cubicBezTo>
                <a:cubicBezTo>
                  <a:pt x="12551" y="13692"/>
                  <a:pt x="12559" y="13692"/>
                  <a:pt x="12551" y="13717"/>
                </a:cubicBezTo>
              </a:path>
              <a:path w="4540" h="5557">
                <a:moveTo>
                  <a:pt x="8111" y="14312"/>
                </a:moveTo>
                <a:cubicBezTo>
                  <a:pt x="8064" y="14407"/>
                  <a:pt x="8104" y="14654"/>
                  <a:pt x="8086" y="14784"/>
                </a:cubicBezTo>
                <a:cubicBezTo>
                  <a:pt x="8066" y="14934"/>
                  <a:pt x="8012" y="15282"/>
                  <a:pt x="8012" y="15131"/>
                </a:cubicBezTo>
              </a:path>
              <a:path w="4540" h="5557">
                <a:moveTo>
                  <a:pt x="8508" y="14312"/>
                </a:moveTo>
                <a:cubicBezTo>
                  <a:pt x="8524" y="14410"/>
                  <a:pt x="8544" y="14326"/>
                  <a:pt x="8632" y="14312"/>
                </a:cubicBezTo>
                <a:cubicBezTo>
                  <a:pt x="8842" y="14278"/>
                  <a:pt x="8849" y="14604"/>
                  <a:pt x="8806" y="14734"/>
                </a:cubicBezTo>
                <a:cubicBezTo>
                  <a:pt x="8732" y="14956"/>
                  <a:pt x="8563" y="15114"/>
                  <a:pt x="8359" y="15056"/>
                </a:cubicBezTo>
                <a:cubicBezTo>
                  <a:pt x="8386" y="14932"/>
                  <a:pt x="8488" y="14814"/>
                  <a:pt x="8632" y="14957"/>
                </a:cubicBezTo>
                <a:cubicBezTo>
                  <a:pt x="8677" y="15046"/>
                  <a:pt x="8691" y="15069"/>
                  <a:pt x="8706" y="15131"/>
                </a:cubicBezTo>
              </a:path>
              <a:path w="4540" h="5557">
                <a:moveTo>
                  <a:pt x="10592" y="12923"/>
                </a:moveTo>
                <a:cubicBezTo>
                  <a:pt x="10592" y="12866"/>
                  <a:pt x="10585" y="12843"/>
                  <a:pt x="10616" y="12799"/>
                </a:cubicBezTo>
                <a:cubicBezTo>
                  <a:pt x="10616" y="13012"/>
                  <a:pt x="10571" y="13233"/>
                  <a:pt x="10592" y="13444"/>
                </a:cubicBezTo>
                <a:cubicBezTo>
                  <a:pt x="10600" y="13461"/>
                  <a:pt x="10608" y="13477"/>
                  <a:pt x="10616" y="13494"/>
                </a:cubicBezTo>
              </a:path>
              <a:path w="4540" h="5557">
                <a:moveTo>
                  <a:pt x="9649" y="15329"/>
                </a:moveTo>
                <a:cubicBezTo>
                  <a:pt x="9667" y="15472"/>
                  <a:pt x="9674" y="15606"/>
                  <a:pt x="9674" y="15751"/>
                </a:cubicBezTo>
                <a:cubicBezTo>
                  <a:pt x="9674" y="15776"/>
                  <a:pt x="9674" y="15800"/>
                  <a:pt x="9674" y="15825"/>
                </a:cubicBezTo>
              </a:path>
              <a:path w="4540" h="5557">
                <a:moveTo>
                  <a:pt x="10418" y="15205"/>
                </a:moveTo>
                <a:cubicBezTo>
                  <a:pt x="10418" y="15159"/>
                  <a:pt x="10488" y="15106"/>
                  <a:pt x="10542" y="15131"/>
                </a:cubicBezTo>
                <a:cubicBezTo>
                  <a:pt x="10702" y="15205"/>
                  <a:pt x="10654" y="15451"/>
                  <a:pt x="10567" y="15553"/>
                </a:cubicBezTo>
                <a:cubicBezTo>
                  <a:pt x="10495" y="15637"/>
                  <a:pt x="10403" y="15688"/>
                  <a:pt x="10319" y="15677"/>
                </a:cubicBezTo>
                <a:cubicBezTo>
                  <a:pt x="10342" y="15546"/>
                  <a:pt x="10415" y="15488"/>
                  <a:pt x="10567" y="15553"/>
                </a:cubicBezTo>
                <a:cubicBezTo>
                  <a:pt x="10636" y="15582"/>
                  <a:pt x="10685" y="15668"/>
                  <a:pt x="10641" y="15726"/>
                </a:cubicBezTo>
              </a:path>
              <a:path w="4540" h="5557">
                <a:moveTo>
                  <a:pt x="8930" y="15453"/>
                </a:moveTo>
                <a:cubicBezTo>
                  <a:pt x="8930" y="15538"/>
                  <a:pt x="8978" y="15521"/>
                  <a:pt x="9054" y="15528"/>
                </a:cubicBezTo>
              </a:path>
              <a:path w="4540" h="5557">
                <a:moveTo>
                  <a:pt x="9153" y="16073"/>
                </a:moveTo>
                <a:cubicBezTo>
                  <a:pt x="9515" y="15965"/>
                  <a:pt x="9842" y="15888"/>
                  <a:pt x="10220" y="15850"/>
                </a:cubicBezTo>
                <a:cubicBezTo>
                  <a:pt x="10453" y="15827"/>
                  <a:pt x="10680" y="15825"/>
                  <a:pt x="10914" y="15825"/>
                </a:cubicBezTo>
              </a:path>
              <a:path w="4540" h="5557">
                <a:moveTo>
                  <a:pt x="10542" y="16123"/>
                </a:moveTo>
                <a:cubicBezTo>
                  <a:pt x="10523" y="16030"/>
                  <a:pt x="10622" y="16003"/>
                  <a:pt x="10716" y="16024"/>
                </a:cubicBezTo>
                <a:cubicBezTo>
                  <a:pt x="10862" y="16057"/>
                  <a:pt x="10832" y="16221"/>
                  <a:pt x="10765" y="16321"/>
                </a:cubicBezTo>
                <a:cubicBezTo>
                  <a:pt x="10740" y="16346"/>
                  <a:pt x="10716" y="16371"/>
                  <a:pt x="10691" y="16396"/>
                </a:cubicBezTo>
                <a:cubicBezTo>
                  <a:pt x="10706" y="16320"/>
                  <a:pt x="10770" y="16238"/>
                  <a:pt x="10864" y="16272"/>
                </a:cubicBezTo>
                <a:cubicBezTo>
                  <a:pt x="11049" y="16338"/>
                  <a:pt x="10793" y="16572"/>
                  <a:pt x="10740" y="16619"/>
                </a:cubicBezTo>
                <a:cubicBezTo>
                  <a:pt x="10630" y="16717"/>
                  <a:pt x="10596" y="16699"/>
                  <a:pt x="10468" y="16669"/>
                </a:cubicBezTo>
              </a:path>
              <a:path w="4540" h="5557">
                <a:moveTo>
                  <a:pt x="11212" y="15081"/>
                </a:moveTo>
                <a:cubicBezTo>
                  <a:pt x="11218" y="15013"/>
                  <a:pt x="11230" y="14866"/>
                  <a:pt x="11261" y="14808"/>
                </a:cubicBezTo>
                <a:cubicBezTo>
                  <a:pt x="11269" y="14808"/>
                  <a:pt x="11278" y="14808"/>
                  <a:pt x="11286" y="14808"/>
                </a:cubicBezTo>
                <a:cubicBezTo>
                  <a:pt x="11342" y="15002"/>
                  <a:pt x="11359" y="15198"/>
                  <a:pt x="11385" y="15404"/>
                </a:cubicBezTo>
                <a:cubicBezTo>
                  <a:pt x="11407" y="15553"/>
                  <a:pt x="11409" y="15588"/>
                  <a:pt x="11435" y="15677"/>
                </a:cubicBezTo>
              </a:path>
              <a:path w="4540" h="5557">
                <a:moveTo>
                  <a:pt x="11361" y="16272"/>
                </a:moveTo>
                <a:cubicBezTo>
                  <a:pt x="11361" y="16206"/>
                  <a:pt x="11361" y="16139"/>
                  <a:pt x="11361" y="16073"/>
                </a:cubicBezTo>
                <a:cubicBezTo>
                  <a:pt x="11361" y="15982"/>
                  <a:pt x="11361" y="16206"/>
                  <a:pt x="11361" y="16297"/>
                </a:cubicBezTo>
                <a:cubicBezTo>
                  <a:pt x="11361" y="16413"/>
                  <a:pt x="11308" y="16659"/>
                  <a:pt x="11460" y="16718"/>
                </a:cubicBezTo>
                <a:cubicBezTo>
                  <a:pt x="11605" y="16775"/>
                  <a:pt x="11712" y="16555"/>
                  <a:pt x="11757" y="16470"/>
                </a:cubicBezTo>
                <a:cubicBezTo>
                  <a:pt x="11798" y="16389"/>
                  <a:pt x="11815" y="16376"/>
                  <a:pt x="11807" y="16321"/>
                </a:cubicBezTo>
                <a:cubicBezTo>
                  <a:pt x="11698" y="16358"/>
                  <a:pt x="11609" y="16459"/>
                  <a:pt x="11609" y="16594"/>
                </a:cubicBezTo>
                <a:cubicBezTo>
                  <a:pt x="11629" y="16635"/>
                  <a:pt x="11637" y="16641"/>
                  <a:pt x="11633" y="16669"/>
                </a:cubicBezTo>
              </a:path>
              <a:path w="4540" h="5557">
                <a:moveTo>
                  <a:pt x="11088" y="12725"/>
                </a:moveTo>
                <a:cubicBezTo>
                  <a:pt x="11018" y="12725"/>
                  <a:pt x="11051" y="12715"/>
                  <a:pt x="11013" y="12799"/>
                </a:cubicBezTo>
                <a:cubicBezTo>
                  <a:pt x="10920" y="12861"/>
                  <a:pt x="11100" y="12708"/>
                  <a:pt x="11112" y="12700"/>
                </a:cubicBezTo>
                <a:cubicBezTo>
                  <a:pt x="11129" y="12692"/>
                  <a:pt x="11145" y="12683"/>
                  <a:pt x="11162" y="12675"/>
                </a:cubicBezTo>
                <a:cubicBezTo>
                  <a:pt x="11259" y="12761"/>
                  <a:pt x="11263" y="12871"/>
                  <a:pt x="11212" y="13022"/>
                </a:cubicBezTo>
                <a:cubicBezTo>
                  <a:pt x="11204" y="13039"/>
                  <a:pt x="11195" y="13055"/>
                  <a:pt x="11187" y="13072"/>
                </a:cubicBezTo>
                <a:cubicBezTo>
                  <a:pt x="11187" y="12989"/>
                  <a:pt x="11184" y="12940"/>
                  <a:pt x="11286" y="12948"/>
                </a:cubicBezTo>
                <a:cubicBezTo>
                  <a:pt x="11460" y="12962"/>
                  <a:pt x="11473" y="13184"/>
                  <a:pt x="11385" y="13295"/>
                </a:cubicBezTo>
                <a:cubicBezTo>
                  <a:pt x="11253" y="13462"/>
                  <a:pt x="11125" y="13419"/>
                  <a:pt x="10964" y="13345"/>
                </a:cubicBezTo>
              </a:path>
              <a:path w="4540" h="5557">
                <a:moveTo>
                  <a:pt x="10592" y="16966"/>
                </a:moveTo>
                <a:cubicBezTo>
                  <a:pt x="10628" y="16917"/>
                  <a:pt x="10635" y="16834"/>
                  <a:pt x="10691" y="16793"/>
                </a:cubicBezTo>
                <a:cubicBezTo>
                  <a:pt x="10810" y="16707"/>
                  <a:pt x="10872" y="16797"/>
                  <a:pt x="10864" y="16917"/>
                </a:cubicBezTo>
                <a:cubicBezTo>
                  <a:pt x="10844" y="16978"/>
                  <a:pt x="10846" y="16992"/>
                  <a:pt x="10815" y="17016"/>
                </a:cubicBezTo>
                <a:cubicBezTo>
                  <a:pt x="10778" y="16941"/>
                  <a:pt x="10908" y="16892"/>
                  <a:pt x="10988" y="16917"/>
                </a:cubicBezTo>
                <a:cubicBezTo>
                  <a:pt x="11154" y="16969"/>
                  <a:pt x="11063" y="17161"/>
                  <a:pt x="10988" y="17239"/>
                </a:cubicBezTo>
                <a:cubicBezTo>
                  <a:pt x="10939" y="17289"/>
                  <a:pt x="10681" y="17431"/>
                  <a:pt x="10666" y="17264"/>
                </a:cubicBezTo>
                <a:cubicBezTo>
                  <a:pt x="10674" y="17239"/>
                  <a:pt x="10683" y="17215"/>
                  <a:pt x="10691" y="17190"/>
                </a:cubicBezTo>
              </a:path>
              <a:path w="4540" h="5557">
                <a:moveTo>
                  <a:pt x="11361" y="16867"/>
                </a:moveTo>
                <a:cubicBezTo>
                  <a:pt x="11337" y="16963"/>
                  <a:pt x="11335" y="17028"/>
                  <a:pt x="11361" y="17140"/>
                </a:cubicBezTo>
                <a:cubicBezTo>
                  <a:pt x="11388" y="17255"/>
                  <a:pt x="11496" y="17320"/>
                  <a:pt x="11609" y="17239"/>
                </a:cubicBezTo>
                <a:cubicBezTo>
                  <a:pt x="11699" y="17174"/>
                  <a:pt x="11671" y="17074"/>
                  <a:pt x="11658" y="16991"/>
                </a:cubicBezTo>
                <a:cubicBezTo>
                  <a:pt x="11573" y="17060"/>
                  <a:pt x="11563" y="17098"/>
                  <a:pt x="11559" y="17214"/>
                </a:cubicBezTo>
                <a:cubicBezTo>
                  <a:pt x="11559" y="17276"/>
                  <a:pt x="11550" y="17291"/>
                  <a:pt x="11584" y="17314"/>
                </a:cubicBezTo>
              </a:path>
              <a:path w="4540" h="5557">
                <a:moveTo>
                  <a:pt x="10319" y="17066"/>
                </a:moveTo>
                <a:cubicBezTo>
                  <a:pt x="10377" y="17066"/>
                  <a:pt x="10376" y="17059"/>
                  <a:pt x="10418" y="17090"/>
                </a:cubicBezTo>
              </a:path>
              <a:path w="4540" h="5557">
                <a:moveTo>
                  <a:pt x="10244" y="17562"/>
                </a:moveTo>
                <a:cubicBezTo>
                  <a:pt x="10491" y="17521"/>
                  <a:pt x="10736" y="17555"/>
                  <a:pt x="10988" y="17537"/>
                </a:cubicBezTo>
                <a:cubicBezTo>
                  <a:pt x="11307" y="17514"/>
                  <a:pt x="11613" y="17428"/>
                  <a:pt x="11931" y="17413"/>
                </a:cubicBezTo>
                <a:cubicBezTo>
                  <a:pt x="11956" y="17413"/>
                  <a:pt x="11980" y="17413"/>
                  <a:pt x="12005" y="17413"/>
                </a:cubicBezTo>
              </a:path>
              <a:path w="4540" h="5557">
                <a:moveTo>
                  <a:pt x="11609" y="17611"/>
                </a:moveTo>
                <a:cubicBezTo>
                  <a:pt x="11538" y="17752"/>
                  <a:pt x="11482" y="17967"/>
                  <a:pt x="11509" y="18132"/>
                </a:cubicBezTo>
                <a:cubicBezTo>
                  <a:pt x="11526" y="18165"/>
                  <a:pt x="11542" y="18198"/>
                  <a:pt x="11559" y="18231"/>
                </a:cubicBezTo>
                <a:cubicBezTo>
                  <a:pt x="11731" y="18191"/>
                  <a:pt x="11861" y="18056"/>
                  <a:pt x="11881" y="17859"/>
                </a:cubicBezTo>
                <a:cubicBezTo>
                  <a:pt x="11902" y="17654"/>
                  <a:pt x="11714" y="17697"/>
                  <a:pt x="11584" y="17686"/>
                </a:cubicBezTo>
              </a:path>
              <a:path w="4540" h="5557">
                <a:moveTo>
                  <a:pt x="10046" y="13543"/>
                </a:moveTo>
                <a:cubicBezTo>
                  <a:pt x="10033" y="13506"/>
                  <a:pt x="10021" y="13522"/>
                  <a:pt x="10021" y="13469"/>
                </a:cubicBezTo>
                <a:cubicBezTo>
                  <a:pt x="9942" y="13469"/>
                  <a:pt x="9952" y="13486"/>
                  <a:pt x="9947" y="13568"/>
                </a:cubicBezTo>
                <a:cubicBezTo>
                  <a:pt x="9941" y="13656"/>
                  <a:pt x="10064" y="13536"/>
                  <a:pt x="10071" y="13519"/>
                </a:cubicBezTo>
                <a:cubicBezTo>
                  <a:pt x="10071" y="13477"/>
                  <a:pt x="10079" y="13461"/>
                  <a:pt x="10046" y="13469"/>
                </a:cubicBezTo>
                <a:cubicBezTo>
                  <a:pt x="9992" y="13480"/>
                  <a:pt x="9910" y="13563"/>
                  <a:pt x="9971" y="13618"/>
                </a:cubicBezTo>
                <a:cubicBezTo>
                  <a:pt x="10005" y="13648"/>
                  <a:pt x="10040" y="13602"/>
                  <a:pt x="9996" y="1359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09800" y="6500880"/>
            <a:ext cx="17280" cy="1440"/>
          </a:xfrm>
          <a:custGeom>
            <a:avLst/>
            <a:gdLst/>
            <a:ahLst/>
            <a:rect l="l" t="t" r="r" b="b"/>
            <a:pathLst>
              <a:path w="51" h="1">
                <a:moveTo>
                  <a:pt x="2803" y="18058"/>
                </a:moveTo>
                <a:cubicBezTo>
                  <a:pt x="2828" y="18058"/>
                  <a:pt x="2836" y="18058"/>
                  <a:pt x="2853" y="1805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divide a decimal by a whol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you t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24 ÷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36.3 ÷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.78 ÷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8040" y="6107040"/>
            <a:ext cx="490680" cy="484200"/>
          </a:xfrm>
          <a:custGeom>
            <a:avLst/>
            <a:gdLst/>
            <a:ahLst/>
            <a:rect l="l" t="t" r="r" b="b"/>
            <a:pathLst>
              <a:path w="1365" h="1341">
                <a:moveTo>
                  <a:pt x="2059" y="17487"/>
                </a:moveTo>
                <a:cubicBezTo>
                  <a:pt x="1976" y="17353"/>
                  <a:pt x="1782" y="17280"/>
                  <a:pt x="1712" y="17140"/>
                </a:cubicBezTo>
                <a:cubicBezTo>
                  <a:pt x="1712" y="17079"/>
                  <a:pt x="1721" y="17063"/>
                  <a:pt x="1687" y="17041"/>
                </a:cubicBezTo>
                <a:cubicBezTo>
                  <a:pt x="1820" y="16992"/>
                  <a:pt x="1934" y="16943"/>
                  <a:pt x="2059" y="17016"/>
                </a:cubicBezTo>
                <a:cubicBezTo>
                  <a:pt x="2200" y="17099"/>
                  <a:pt x="2321" y="17275"/>
                  <a:pt x="2406" y="17413"/>
                </a:cubicBezTo>
                <a:cubicBezTo>
                  <a:pt x="2482" y="17536"/>
                  <a:pt x="2513" y="17684"/>
                  <a:pt x="2580" y="17810"/>
                </a:cubicBezTo>
                <a:cubicBezTo>
                  <a:pt x="2639" y="17922"/>
                  <a:pt x="2731" y="18005"/>
                  <a:pt x="2803" y="18107"/>
                </a:cubicBezTo>
                <a:cubicBezTo>
                  <a:pt x="2870" y="18201"/>
                  <a:pt x="2938" y="18223"/>
                  <a:pt x="3026" y="18281"/>
                </a:cubicBezTo>
                <a:cubicBezTo>
                  <a:pt x="3051" y="18281"/>
                  <a:pt x="3059" y="18281"/>
                  <a:pt x="3051" y="18306"/>
                </a:cubicBezTo>
                <a:cubicBezTo>
                  <a:pt x="3001" y="18306"/>
                  <a:pt x="2973" y="18316"/>
                  <a:pt x="2952" y="18281"/>
                </a:cubicBezTo>
                <a:cubicBezTo>
                  <a:pt x="2924" y="18234"/>
                  <a:pt x="2975" y="18216"/>
                  <a:pt x="2902" y="18256"/>
                </a:cubicBezTo>
                <a:cubicBezTo>
                  <a:pt x="2876" y="18270"/>
                  <a:pt x="2872" y="18287"/>
                  <a:pt x="2853" y="183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divide a decimal by a whol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9.4 ÷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2.91 ÷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68 ÷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Used For Astronaut Sandwiches?    B-5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1:01:44Z</dcterms:created>
  <dc:creator>Brian McGrath</dc:creator>
  <dc:description/>
  <dc:language>en-US</dc:language>
  <cp:lastModifiedBy>ccps</cp:lastModifiedBy>
  <dcterms:modified xsi:type="dcterms:W3CDTF">2010-04-12T18:46:42Z</dcterms:modified>
  <cp:revision>4</cp:revision>
  <dc:subject/>
  <dc:title>April 12, 2010 Objective:  Students will divide a decimal by a whole number.</dc:title>
</cp:coreProperties>
</file>